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5FC-C8F0-430B-8C18-68CA5B9D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148-F863-440C-8888-DFA3480F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C54-5326-4D32-9C2A-00DCF776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FC8-4CBF-4403-AFD0-13B40F2F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5681-4B91-4706-AA45-F98EFCAA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5731-057F-4768-BAE8-3798E64E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7DEE-B769-49CF-BE8D-3A115088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06AC-7D2D-4B77-97D3-9C0B6A25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1EAE-E3B0-4398-9252-4AED3716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C5D2-B8D4-4450-BFD5-E4A92650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C6B2-6889-4193-A490-F33F2EE7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CB0-EA6E-4C84-A43B-60AF3AEA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F73D-8CE2-4DC8-A1A2-F2A9FEB3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2BD2-6F6D-404C-B1DC-B3F0E4E9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1D08-75EA-4DB0-9625-CEDC1EED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DB28-1D3A-4C4A-BE63-16B9580C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14BF-8F24-41B4-A3E7-3B75EF6E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0755-4575-4CD8-8091-47D8F4A6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71DB-08CC-4EBB-A92B-4B1918E5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EDBF-F6D6-4D0C-8DC6-59832F85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9345-C1BC-479A-BB1A-C5AE1B6A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A1EC-DF1C-4B49-8071-3A57AD56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91C-090E-4935-BC9C-C0FAADD6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834D-7512-4B25-A408-8DDAF630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CEB6-FA87-483D-89A0-D3966CC5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10223-67A4-4F89-8C13-A52EC2C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003D4-5AC9-41C3-93AC-3ED8AC9D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D127-52A3-4F08-A146-9AA7F449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736D3-E3A9-44D1-9F05-CEE67FF3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2EFB-DCA8-4D62-819A-78532F20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696B9-18B6-49EE-B395-6E78C60F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22097-2825-4CB0-837E-B56C4365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B5CBE-C64B-4455-B034-541D64B1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31D-F764-4C0E-A16E-B39889E3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812AF-E9FB-48A3-9847-9B0F318B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7920F-83B9-4D3B-9862-53EBB28A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6C3FA-467F-4B53-84D1-58E56C45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6F68A-46AF-49DC-8B9D-048FB8F5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28C6-BAC2-4DD7-BD61-A0727A4F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65025-AA04-400F-8936-7A4DAE7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D687-EED3-48C7-B3BB-6790C10A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7D01-4593-4B3C-AB9F-813F038A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AB6E-26B8-4165-915C-AF54D829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932E6-B6AB-4C60-824E-AA7C5D90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DD7-6A7A-427E-98C4-22382EC5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DAC6D-E7D5-4DCA-B4E7-67479C47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EC798-49E9-46CD-8933-91162D1B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AE21-4D11-41EA-A369-A8A13110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00CD-BA41-4F04-854D-DC7512BE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D54FB-1801-44B4-919C-8AA5CECB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6EA2B-D7CD-4DDC-BC15-FBBBF6A2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1A0AD-57C0-4870-8934-6B06185B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609AB-0750-4F3A-B3C3-57AEBFF7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EA7FB-CFA5-4E16-9280-3D713386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EA040-D135-4CCE-9A4A-0BAE38DE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4FB-2872-4ECD-BC18-97C12DEF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9338B-3970-4D65-92D5-FBC3530A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919-A867-48F6-BE31-7C0EE88B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88D-EF5B-4A0B-8C3D-D78FF12E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D43-20BF-4131-91AF-5F0C3F20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5A8E-E098-433B-A10E-11DBCB7BB1F6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ený obdélník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B909-F99F-4FAE-995A-500392FB415A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ený obdélník 9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Zaoblený obdélník 9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bdélník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E24D-6708-47E3-870C-FDB78A12530E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ený obdélník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FBC8-818A-4B64-87AF-04CAD0FC10CE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délník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élník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élník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4EA9-A9E5-4D5D-ADA4-8DF09F9A882E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ovéPole 3"/>
          <p:cNvSpPr/>
          <p:nvPr/>
        </p:nvSpPr>
        <p:spPr>
          <a:xfrm>
            <a:off x="389160" y="1844640"/>
            <a:ext cx="89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Perpetua"/>
                <a:ea typeface="Arial"/>
              </a:rPr>
              <a:t>Geometrie s didaktikou 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"/>
          <p:cNvSpPr/>
          <p:nvPr/>
        </p:nvSpPr>
        <p:spPr>
          <a:xfrm>
            <a:off x="3077280" y="47628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náška číslo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ovéPole 5"/>
          <p:cNvSpPr/>
          <p:nvPr/>
        </p:nvSpPr>
        <p:spPr>
          <a:xfrm>
            <a:off x="3724920" y="38577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d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ovéPole 6"/>
          <p:cNvSpPr/>
          <p:nvPr/>
        </p:nvSpPr>
        <p:spPr>
          <a:xfrm>
            <a:off x="237240" y="616572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  <a:ea typeface="Arial"/>
              </a:rPr>
              <a:t>KMA a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http://t2.gstatic.com/images?q=tbn:ANd9GcSPhd4BY7QlBoPezU5ZjFNm0XMvuf30nUOyOHzuBhWeQaaG-APXjg"/>
          <p:cNvPicPr/>
          <p:nvPr/>
        </p:nvPicPr>
        <p:blipFill>
          <a:blip r:embed="rId1"/>
          <a:stretch/>
        </p:blipFill>
        <p:spPr>
          <a:xfrm>
            <a:off x="5724360" y="5661000"/>
            <a:ext cx="3059280" cy="99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Zaoblený obdélník 3" descr=""/>
          <p:cNvPicPr/>
          <p:nvPr/>
        </p:nvPicPr>
        <p:blipFill>
          <a:blip r:embed="rId1"/>
          <a:stretch/>
        </p:blipFill>
        <p:spPr>
          <a:xfrm>
            <a:off x="-23760" y="554040"/>
            <a:ext cx="9191520" cy="1676520"/>
          </a:xfrm>
          <a:prstGeom prst="rect">
            <a:avLst/>
          </a:prstGeom>
          <a:ln w="0">
            <a:noFill/>
          </a:ln>
        </p:spPr>
      </p:pic>
      <p:pic>
        <p:nvPicPr>
          <p:cNvPr id="39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9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6"/>
          <p:cNvSpPr/>
          <p:nvPr/>
        </p:nvSpPr>
        <p:spPr>
          <a:xfrm>
            <a:off x="131040" y="2060640"/>
            <a:ext cx="8807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echť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jsou dvě trojice bodů, které neleží v přímce, a nech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lat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je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´B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je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´C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je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´C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Leží-li b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mezi body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, 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 bod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leží mezi body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 platí-li, ž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je shodné 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´ P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pak j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´P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ovéPole 9"/>
          <p:cNvSpPr/>
          <p:nvPr/>
        </p:nvSpPr>
        <p:spPr>
          <a:xfrm>
            <a:off x="3566520" y="45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ovéPole 11"/>
          <p:cNvSpPr/>
          <p:nvPr/>
        </p:nvSpPr>
        <p:spPr>
          <a:xfrm>
            <a:off x="5006880" y="45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ovéPole 12"/>
          <p:cNvSpPr/>
          <p:nvPr/>
        </p:nvSpPr>
        <p:spPr>
          <a:xfrm>
            <a:off x="4575600" y="31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lipsa 9"/>
          <p:cNvSpPr/>
          <p:nvPr/>
        </p:nvSpPr>
        <p:spPr>
          <a:xfrm>
            <a:off x="3852720" y="443700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lipsa 11"/>
          <p:cNvSpPr/>
          <p:nvPr/>
        </p:nvSpPr>
        <p:spPr>
          <a:xfrm>
            <a:off x="5076720" y="4365720"/>
            <a:ext cx="1447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lipsa 12"/>
          <p:cNvSpPr/>
          <p:nvPr/>
        </p:nvSpPr>
        <p:spPr>
          <a:xfrm>
            <a:off x="4500720" y="3284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římá spojovací čára 13"/>
          <p:cNvSpPr/>
          <p:nvPr/>
        </p:nvSpPr>
        <p:spPr>
          <a:xfrm flipV="1">
            <a:off x="3924360" y="4436640"/>
            <a:ext cx="1152360" cy="7164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římá spojovací čára 14"/>
          <p:cNvSpPr/>
          <p:nvPr/>
        </p:nvSpPr>
        <p:spPr>
          <a:xfrm flipV="1">
            <a:off x="3924360" y="3357720"/>
            <a:ext cx="596880" cy="107928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římá spojovací čára 15"/>
          <p:cNvSpPr/>
          <p:nvPr/>
        </p:nvSpPr>
        <p:spPr>
          <a:xfrm>
            <a:off x="4645080" y="3357720"/>
            <a:ext cx="554040" cy="105876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ovéPole 33"/>
          <p:cNvSpPr/>
          <p:nvPr/>
        </p:nvSpPr>
        <p:spPr>
          <a:xfrm>
            <a:off x="5799960" y="4653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ovéPole 34"/>
          <p:cNvSpPr/>
          <p:nvPr/>
        </p:nvSpPr>
        <p:spPr>
          <a:xfrm>
            <a:off x="7239960" y="4581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ovéPole 35"/>
          <p:cNvSpPr/>
          <p:nvPr/>
        </p:nvSpPr>
        <p:spPr>
          <a:xfrm>
            <a:off x="6520320" y="3068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lipsa 19"/>
          <p:cNvSpPr/>
          <p:nvPr/>
        </p:nvSpPr>
        <p:spPr>
          <a:xfrm>
            <a:off x="6084720" y="4508640"/>
            <a:ext cx="1447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lipsa 20"/>
          <p:cNvSpPr/>
          <p:nvPr/>
        </p:nvSpPr>
        <p:spPr>
          <a:xfrm>
            <a:off x="7237440" y="443700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lipsa 21"/>
          <p:cNvSpPr/>
          <p:nvPr/>
        </p:nvSpPr>
        <p:spPr>
          <a:xfrm>
            <a:off x="6661080" y="3357720"/>
            <a:ext cx="144360" cy="1425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římá spojovací čára 22"/>
          <p:cNvSpPr/>
          <p:nvPr/>
        </p:nvSpPr>
        <p:spPr>
          <a:xfrm flipV="1">
            <a:off x="6156360" y="4508640"/>
            <a:ext cx="1152360" cy="7272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římá spojovací čára 23"/>
          <p:cNvSpPr/>
          <p:nvPr/>
        </p:nvSpPr>
        <p:spPr>
          <a:xfrm flipV="1">
            <a:off x="6156360" y="3428640"/>
            <a:ext cx="525600" cy="107964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římá spojovací čára 24"/>
          <p:cNvSpPr/>
          <p:nvPr/>
        </p:nvSpPr>
        <p:spPr>
          <a:xfrm>
            <a:off x="6805440" y="3429000"/>
            <a:ext cx="554040" cy="105876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Elipsa 25"/>
          <p:cNvSpPr/>
          <p:nvPr/>
        </p:nvSpPr>
        <p:spPr>
          <a:xfrm>
            <a:off x="6805440" y="443700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lipsa 26"/>
          <p:cNvSpPr/>
          <p:nvPr/>
        </p:nvSpPr>
        <p:spPr>
          <a:xfrm>
            <a:off x="4645080" y="436572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ovéPole 27"/>
          <p:cNvSpPr/>
          <p:nvPr/>
        </p:nvSpPr>
        <p:spPr>
          <a:xfrm>
            <a:off x="4575240" y="450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ovéPole 28"/>
          <p:cNvSpPr/>
          <p:nvPr/>
        </p:nvSpPr>
        <p:spPr>
          <a:xfrm>
            <a:off x="6735960" y="4581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Přímá spojovací šipka 29"/>
          <p:cNvCxnSpPr>
            <a:stCxn id="397" idx="5"/>
            <a:endCxn id="414" idx="0"/>
          </p:cNvCxnSpPr>
          <p:nvPr/>
        </p:nvCxnSpPr>
        <p:spPr>
          <a:xfrm flipV="1">
            <a:off x="3975120" y="4507920"/>
            <a:ext cx="767520" cy="52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417" name="Přímá spojovací šipka 30"/>
          <p:cNvCxnSpPr/>
          <p:nvPr/>
        </p:nvCxnSpPr>
        <p:spPr>
          <a:xfrm flipV="1">
            <a:off x="6156360" y="4581000"/>
            <a:ext cx="767520" cy="5184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418" name="Přímá spojovací čára 31"/>
          <p:cNvSpPr/>
          <p:nvPr/>
        </p:nvSpPr>
        <p:spPr>
          <a:xfrm flipH="1" flipV="1">
            <a:off x="4572000" y="3428640"/>
            <a:ext cx="195120" cy="95724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římá spojovací čára 32"/>
          <p:cNvSpPr/>
          <p:nvPr/>
        </p:nvSpPr>
        <p:spPr>
          <a:xfrm flipH="1" flipV="1">
            <a:off x="6732720" y="3500280"/>
            <a:ext cx="195120" cy="95760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bdélník 33"/>
          <p:cNvSpPr/>
          <p:nvPr/>
        </p:nvSpPr>
        <p:spPr>
          <a:xfrm>
            <a:off x="373320" y="486900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bdélník 34"/>
          <p:cNvSpPr/>
          <p:nvPr/>
        </p:nvSpPr>
        <p:spPr>
          <a:xfrm>
            <a:off x="374400" y="5516640"/>
            <a:ext cx="12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bdélník 35"/>
          <p:cNvSpPr/>
          <p:nvPr/>
        </p:nvSpPr>
        <p:spPr>
          <a:xfrm>
            <a:off x="2102400" y="4869000"/>
            <a:ext cx="12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délník 36"/>
          <p:cNvSpPr/>
          <p:nvPr/>
        </p:nvSpPr>
        <p:spPr>
          <a:xfrm>
            <a:off x="2102040" y="551664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P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délník 37"/>
          <p:cNvSpPr/>
          <p:nvPr/>
        </p:nvSpPr>
        <p:spPr>
          <a:xfrm>
            <a:off x="3829680" y="4869000"/>
            <a:ext cx="12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´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pic>
        <p:nvPicPr>
          <p:cNvPr id="42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2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ovéPole 1"/>
          <p:cNvSpPr/>
          <p:nvPr/>
        </p:nvSpPr>
        <p:spPr>
          <a:xfrm>
            <a:off x="2731680" y="213372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nost úseček je relace ekvival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Zaoblený obdélník 2"/>
          <p:cNvGrpSpPr/>
          <p:nvPr/>
        </p:nvGrpSpPr>
        <p:grpSpPr>
          <a:xfrm>
            <a:off x="274680" y="2743200"/>
            <a:ext cx="2833560" cy="719280"/>
            <a:chOff x="274680" y="2743200"/>
            <a:chExt cx="2833560" cy="719280"/>
          </a:xfrm>
        </p:grpSpPr>
        <p:pic>
          <p:nvPicPr>
            <p:cNvPr id="431" name="Zaoblený obdélník 2" descr=""/>
            <p:cNvPicPr/>
            <p:nvPr/>
          </p:nvPicPr>
          <p:blipFill>
            <a:blip r:embed="rId3"/>
            <a:stretch/>
          </p:blipFill>
          <p:spPr>
            <a:xfrm>
              <a:off x="274680" y="2743200"/>
              <a:ext cx="2833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47760" y="2805120"/>
              <a:ext cx="2687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 musí splňova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Zaoblený obdélník 7"/>
          <p:cNvGrpSpPr/>
          <p:nvPr/>
        </p:nvGrpSpPr>
        <p:grpSpPr>
          <a:xfrm>
            <a:off x="274680" y="3608280"/>
            <a:ext cx="4492440" cy="719280"/>
            <a:chOff x="274680" y="3608280"/>
            <a:chExt cx="4492440" cy="719280"/>
          </a:xfrm>
        </p:grpSpPr>
        <p:pic>
          <p:nvPicPr>
            <p:cNvPr id="434" name="Zaoblený obdélník 7" descr=""/>
            <p:cNvPicPr/>
            <p:nvPr/>
          </p:nvPicPr>
          <p:blipFill>
            <a:blip r:embed="rId4"/>
            <a:stretch/>
          </p:blipFill>
          <p:spPr>
            <a:xfrm>
              <a:off x="274680" y="3608280"/>
              <a:ext cx="4492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49200" y="3670200"/>
              <a:ext cx="4341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 jakých axiomů toto plyn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ovéPole 4"/>
          <p:cNvSpPr/>
          <p:nvPr/>
        </p:nvSpPr>
        <p:spPr>
          <a:xfrm>
            <a:off x="365040" y="4508640"/>
            <a:ext cx="79902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že ted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nost ú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 relace typu ekvivalence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dukuje roz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žiny všech ú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 na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ídy navzájem shodných ú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ovéPole 9"/>
          <p:cNvSpPr/>
          <p:nvPr/>
        </p:nvSpPr>
        <p:spPr>
          <a:xfrm>
            <a:off x="4582800" y="5373720"/>
            <a:ext cx="32515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kážete toto ilustr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pic>
        <p:nvPicPr>
          <p:cNvPr id="439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40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římá spojovací čára 12"/>
          <p:cNvSpPr/>
          <p:nvPr/>
        </p:nvSpPr>
        <p:spPr>
          <a:xfrm flipV="1">
            <a:off x="971640" y="2636640"/>
            <a:ext cx="1655640" cy="93636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římá spojovací čára 13"/>
          <p:cNvSpPr/>
          <p:nvPr/>
        </p:nvSpPr>
        <p:spPr>
          <a:xfrm flipV="1">
            <a:off x="4716360" y="2276280"/>
            <a:ext cx="142920" cy="187308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římá spojovací čára 15"/>
          <p:cNvSpPr/>
          <p:nvPr/>
        </p:nvSpPr>
        <p:spPr>
          <a:xfrm flipV="1">
            <a:off x="1403280" y="2276280"/>
            <a:ext cx="2881440" cy="165708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římá spojovací čára 17"/>
          <p:cNvSpPr/>
          <p:nvPr/>
        </p:nvSpPr>
        <p:spPr>
          <a:xfrm flipH="1" flipV="1">
            <a:off x="6012000" y="2060280"/>
            <a:ext cx="792000" cy="288108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římá spojovací čára 19"/>
          <p:cNvSpPr/>
          <p:nvPr/>
        </p:nvSpPr>
        <p:spPr>
          <a:xfrm flipV="1">
            <a:off x="684360" y="2565000"/>
            <a:ext cx="863280" cy="7164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římá spojovací čára 22"/>
          <p:cNvSpPr/>
          <p:nvPr/>
        </p:nvSpPr>
        <p:spPr>
          <a:xfrm flipV="1">
            <a:off x="5148360" y="4292280"/>
            <a:ext cx="863640" cy="7308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římá spojovací čára 23"/>
          <p:cNvSpPr/>
          <p:nvPr/>
        </p:nvSpPr>
        <p:spPr>
          <a:xfrm flipV="1">
            <a:off x="7236000" y="2276640"/>
            <a:ext cx="865080" cy="7272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římá spojovací čára 24"/>
          <p:cNvSpPr/>
          <p:nvPr/>
        </p:nvSpPr>
        <p:spPr>
          <a:xfrm flipV="1">
            <a:off x="7596360" y="3141720"/>
            <a:ext cx="863280" cy="7128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bdélník 26"/>
          <p:cNvSpPr/>
          <p:nvPr/>
        </p:nvSpPr>
        <p:spPr>
          <a:xfrm>
            <a:off x="250560" y="4653000"/>
            <a:ext cx="23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D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F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bdélník 27"/>
          <p:cNvSpPr/>
          <p:nvPr/>
        </p:nvSpPr>
        <p:spPr>
          <a:xfrm>
            <a:off x="301680" y="5229360"/>
            <a:ext cx="12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bdélník 28"/>
          <p:cNvSpPr/>
          <p:nvPr/>
        </p:nvSpPr>
        <p:spPr>
          <a:xfrm>
            <a:off x="1741320" y="522936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U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ovéPole 29"/>
          <p:cNvSpPr/>
          <p:nvPr/>
        </p:nvSpPr>
        <p:spPr>
          <a:xfrm>
            <a:off x="397800" y="2492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ovéPole 30"/>
          <p:cNvSpPr/>
          <p:nvPr/>
        </p:nvSpPr>
        <p:spPr>
          <a:xfrm>
            <a:off x="1478880" y="24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ovéPole 31"/>
          <p:cNvSpPr/>
          <p:nvPr/>
        </p:nvSpPr>
        <p:spPr>
          <a:xfrm>
            <a:off x="4862880" y="42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ovéPole 32"/>
          <p:cNvSpPr/>
          <p:nvPr/>
        </p:nvSpPr>
        <p:spPr>
          <a:xfrm>
            <a:off x="594324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ovéPole 33"/>
          <p:cNvSpPr/>
          <p:nvPr/>
        </p:nvSpPr>
        <p:spPr>
          <a:xfrm>
            <a:off x="695088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ovéPole 34"/>
          <p:cNvSpPr/>
          <p:nvPr/>
        </p:nvSpPr>
        <p:spPr>
          <a:xfrm>
            <a:off x="8030160" y="206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ovéPole 35"/>
          <p:cNvSpPr/>
          <p:nvPr/>
        </p:nvSpPr>
        <p:spPr>
          <a:xfrm>
            <a:off x="731088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ovéPole 36"/>
          <p:cNvSpPr/>
          <p:nvPr/>
        </p:nvSpPr>
        <p:spPr>
          <a:xfrm>
            <a:off x="839124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ovéPole 37"/>
          <p:cNvSpPr/>
          <p:nvPr/>
        </p:nvSpPr>
        <p:spPr>
          <a:xfrm>
            <a:off x="686880" y="3429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ovéPole 38"/>
          <p:cNvSpPr/>
          <p:nvPr/>
        </p:nvSpPr>
        <p:spPr>
          <a:xfrm>
            <a:off x="255852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ovéPole 39"/>
          <p:cNvSpPr/>
          <p:nvPr/>
        </p:nvSpPr>
        <p:spPr>
          <a:xfrm>
            <a:off x="4646520" y="198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40"/>
          <p:cNvSpPr/>
          <p:nvPr/>
        </p:nvSpPr>
        <p:spPr>
          <a:xfrm>
            <a:off x="443088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ovéPole 41"/>
          <p:cNvSpPr/>
          <p:nvPr/>
        </p:nvSpPr>
        <p:spPr>
          <a:xfrm>
            <a:off x="119016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ovéPole 42"/>
          <p:cNvSpPr/>
          <p:nvPr/>
        </p:nvSpPr>
        <p:spPr>
          <a:xfrm>
            <a:off x="414288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ovéPole 43"/>
          <p:cNvSpPr/>
          <p:nvPr/>
        </p:nvSpPr>
        <p:spPr>
          <a:xfrm>
            <a:off x="6590160" y="486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ovéPole 44"/>
          <p:cNvSpPr/>
          <p:nvPr/>
        </p:nvSpPr>
        <p:spPr>
          <a:xfrm>
            <a:off x="5727240" y="19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TextovéPole 45"/>
          <p:cNvGrpSpPr/>
          <p:nvPr/>
        </p:nvGrpSpPr>
        <p:grpSpPr>
          <a:xfrm>
            <a:off x="3213000" y="5310360"/>
            <a:ext cx="3321000" cy="725400"/>
            <a:chOff x="3213000" y="5310360"/>
            <a:chExt cx="3321000" cy="725400"/>
          </a:xfrm>
        </p:grpSpPr>
        <p:pic>
          <p:nvPicPr>
            <p:cNvPr id="470" name="TextovéPole 45" descr=""/>
            <p:cNvPicPr/>
            <p:nvPr/>
          </p:nvPicPr>
          <p:blipFill>
            <a:blip r:embed="rId3"/>
            <a:stretch/>
          </p:blipFill>
          <p:spPr>
            <a:xfrm>
              <a:off x="3213000" y="5310360"/>
              <a:ext cx="33210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359160" y="5373720"/>
              <a:ext cx="307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zniknou tedy tři tříd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TextovéPole 46"/>
          <p:cNvSpPr/>
          <p:nvPr/>
        </p:nvSpPr>
        <p:spPr>
          <a:xfrm>
            <a:off x="7312320" y="4653000"/>
            <a:ext cx="10465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tř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ovéPole 47"/>
          <p:cNvSpPr/>
          <p:nvPr/>
        </p:nvSpPr>
        <p:spPr>
          <a:xfrm>
            <a:off x="7312320" y="5229360"/>
            <a:ext cx="10465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ř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ovéPole 48"/>
          <p:cNvSpPr/>
          <p:nvPr/>
        </p:nvSpPr>
        <p:spPr>
          <a:xfrm>
            <a:off x="7312320" y="5805360"/>
            <a:ext cx="10465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tř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Přímá spojovací šipka 50"/>
          <p:cNvCxnSpPr>
            <a:endCxn id="472" idx="1"/>
          </p:cNvCxnSpPr>
          <p:nvPr/>
        </p:nvCxnSpPr>
        <p:spPr>
          <a:xfrm flipV="1">
            <a:off x="6443280" y="4884120"/>
            <a:ext cx="865800" cy="7196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76" name="Přímá spojovací šipka 52"/>
          <p:cNvCxnSpPr>
            <a:endCxn id="473" idx="1"/>
          </p:cNvCxnSpPr>
          <p:nvPr/>
        </p:nvCxnSpPr>
        <p:spPr>
          <a:xfrm flipV="1">
            <a:off x="6443280" y="5459040"/>
            <a:ext cx="865800" cy="1447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77" name="Přímá spojovací šipka 54"/>
          <p:cNvCxnSpPr>
            <a:endCxn id="474" idx="1"/>
          </p:cNvCxnSpPr>
          <p:nvPr/>
        </p:nvCxnSpPr>
        <p:spPr>
          <a:xfrm>
            <a:off x="6443280" y="5603760"/>
            <a:ext cx="865800" cy="4327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>
    <p:wipe dir="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4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4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6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2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Zaoblený obdélník 3" descr=""/>
          <p:cNvPicPr/>
          <p:nvPr/>
        </p:nvPicPr>
        <p:blipFill>
          <a:blip r:embed="rId1"/>
          <a:stretch/>
        </p:blipFill>
        <p:spPr>
          <a:xfrm>
            <a:off x="-66600" y="444600"/>
            <a:ext cx="9186840" cy="1780920"/>
          </a:xfrm>
          <a:prstGeom prst="rect">
            <a:avLst/>
          </a:prstGeom>
          <a:ln w="0">
            <a:noFill/>
          </a:ln>
        </p:spPr>
      </p:pic>
      <p:pic>
        <p:nvPicPr>
          <p:cNvPr id="479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80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římá spojovací čára 12"/>
          <p:cNvSpPr/>
          <p:nvPr/>
        </p:nvSpPr>
        <p:spPr>
          <a:xfrm>
            <a:off x="684360" y="3357720"/>
            <a:ext cx="28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Přímá spojovací šipka 14"/>
          <p:cNvCxnSpPr/>
          <p:nvPr/>
        </p:nvCxnSpPr>
        <p:spPr>
          <a:xfrm>
            <a:off x="684000" y="3860280"/>
            <a:ext cx="4896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TextovéPole 15"/>
          <p:cNvSpPr/>
          <p:nvPr/>
        </p:nvSpPr>
        <p:spPr>
          <a:xfrm>
            <a:off x="39780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ovéPole 16"/>
          <p:cNvSpPr/>
          <p:nvPr/>
        </p:nvSpPr>
        <p:spPr>
          <a:xfrm>
            <a:off x="342288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ovéPole 17"/>
          <p:cNvSpPr/>
          <p:nvPr/>
        </p:nvSpPr>
        <p:spPr>
          <a:xfrm>
            <a:off x="39816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ovéPole 18"/>
          <p:cNvSpPr/>
          <p:nvPr/>
        </p:nvSpPr>
        <p:spPr>
          <a:xfrm>
            <a:off x="543924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Elipsa 19"/>
          <p:cNvSpPr/>
          <p:nvPr/>
        </p:nvSpPr>
        <p:spPr>
          <a:xfrm>
            <a:off x="3419640" y="378936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ovéPole 20"/>
          <p:cNvSpPr/>
          <p:nvPr/>
        </p:nvSpPr>
        <p:spPr>
          <a:xfrm>
            <a:off x="3350520" y="35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římá spojovací čára 21"/>
          <p:cNvSpPr/>
          <p:nvPr/>
        </p:nvSpPr>
        <p:spPr>
          <a:xfrm>
            <a:off x="684360" y="4005360"/>
            <a:ext cx="280800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Zaoblený obdélník 22"/>
          <p:cNvGrpSpPr/>
          <p:nvPr/>
        </p:nvGrpSpPr>
        <p:grpSpPr>
          <a:xfrm>
            <a:off x="420840" y="2109960"/>
            <a:ext cx="6291000" cy="742680"/>
            <a:chOff x="420840" y="2109960"/>
            <a:chExt cx="6291000" cy="742680"/>
          </a:xfrm>
        </p:grpSpPr>
        <p:pic>
          <p:nvPicPr>
            <p:cNvPr id="492" name="Zaoblený obdélník 22" descr=""/>
            <p:cNvPicPr/>
            <p:nvPr/>
          </p:nvPicPr>
          <p:blipFill>
            <a:blip r:embed="rId3"/>
            <a:stretch/>
          </p:blipFill>
          <p:spPr>
            <a:xfrm>
              <a:off x="420840" y="2109960"/>
              <a:ext cx="629100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95360" y="2160720"/>
              <a:ext cx="61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nesení (přenesení) úsečky na polopřímk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ovéPole 23"/>
          <p:cNvSpPr/>
          <p:nvPr/>
        </p:nvSpPr>
        <p:spPr>
          <a:xfrm>
            <a:off x="414360" y="4437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ějme dánu úsečku AB a polopřímku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ovéPole 24"/>
          <p:cNvSpPr/>
          <p:nvPr/>
        </p:nvSpPr>
        <p:spPr>
          <a:xfrm>
            <a:off x="395280" y="4941720"/>
            <a:ext cx="62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lopřímce CD najdeme bod E tak, aby platilo AB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2710800" y="5589720"/>
            <a:ext cx="57859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le axiomu S2 takový bod v každém případě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Zaoblený obdélník 3" descr=""/>
          <p:cNvPicPr/>
          <p:nvPr/>
        </p:nvPicPr>
        <p:blipFill>
          <a:blip r:embed="rId1"/>
          <a:stretch/>
        </p:blipFill>
        <p:spPr>
          <a:xfrm>
            <a:off x="-66600" y="444600"/>
            <a:ext cx="9186840" cy="1780920"/>
          </a:xfrm>
          <a:prstGeom prst="rect">
            <a:avLst/>
          </a:prstGeom>
          <a:ln w="0">
            <a:noFill/>
          </a:ln>
        </p:spPr>
      </p:pic>
      <p:pic>
        <p:nvPicPr>
          <p:cNvPr id="49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9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ovéPole 1"/>
          <p:cNvSpPr/>
          <p:nvPr/>
        </p:nvSpPr>
        <p:spPr>
          <a:xfrm>
            <a:off x="324000" y="2421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5508720" y="5516640"/>
            <a:ext cx="31687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 probíhá konstruk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ovéPole 8"/>
          <p:cNvGrpSpPr/>
          <p:nvPr/>
        </p:nvGrpSpPr>
        <p:grpSpPr>
          <a:xfrm>
            <a:off x="407880" y="2212920"/>
            <a:ext cx="1994040" cy="725400"/>
            <a:chOff x="407880" y="2212920"/>
            <a:chExt cx="1994040" cy="725400"/>
          </a:xfrm>
        </p:grpSpPr>
        <p:pic>
          <p:nvPicPr>
            <p:cNvPr id="504" name="TextovéPole 8" descr=""/>
            <p:cNvPicPr/>
            <p:nvPr/>
          </p:nvPicPr>
          <p:blipFill>
            <a:blip r:embed="rId3"/>
            <a:stretch/>
          </p:blipFill>
          <p:spPr>
            <a:xfrm>
              <a:off x="407880" y="2212920"/>
              <a:ext cx="19940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47920" y="2276640"/>
              <a:ext cx="174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řed úsečk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Přímá spojovací čára 11"/>
          <p:cNvSpPr/>
          <p:nvPr/>
        </p:nvSpPr>
        <p:spPr>
          <a:xfrm>
            <a:off x="3708360" y="3068640"/>
            <a:ext cx="20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ovéPole 12"/>
          <p:cNvSpPr/>
          <p:nvPr/>
        </p:nvSpPr>
        <p:spPr>
          <a:xfrm>
            <a:off x="342288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ovéPole 13"/>
          <p:cNvSpPr/>
          <p:nvPr/>
        </p:nvSpPr>
        <p:spPr>
          <a:xfrm>
            <a:off x="565488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ovéPole 14"/>
          <p:cNvSpPr/>
          <p:nvPr/>
        </p:nvSpPr>
        <p:spPr>
          <a:xfrm>
            <a:off x="4503240" y="31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Elipsa 16"/>
          <p:cNvSpPr/>
          <p:nvPr/>
        </p:nvSpPr>
        <p:spPr>
          <a:xfrm>
            <a:off x="4643280" y="2997360"/>
            <a:ext cx="1447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ovéPole 17"/>
          <p:cNvSpPr/>
          <p:nvPr/>
        </p:nvSpPr>
        <p:spPr>
          <a:xfrm>
            <a:off x="449280" y="4653000"/>
            <a:ext cx="75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d S se nazývá střed úsečky AB, právě tehdy, když 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B ˄ A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ovéPole 19"/>
          <p:cNvSpPr/>
          <p:nvPr/>
        </p:nvSpPr>
        <p:spPr>
          <a:xfrm>
            <a:off x="477360" y="407664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ějme dánu úsečku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Zaoblený obdélník 3" descr=""/>
          <p:cNvPicPr/>
          <p:nvPr/>
        </p:nvPicPr>
        <p:blipFill>
          <a:blip r:embed="rId1"/>
          <a:stretch/>
        </p:blipFill>
        <p:spPr>
          <a:xfrm>
            <a:off x="-66600" y="444600"/>
            <a:ext cx="9186840" cy="1780920"/>
          </a:xfrm>
          <a:prstGeom prst="rect">
            <a:avLst/>
          </a:prstGeom>
          <a:ln w="0">
            <a:noFill/>
          </a:ln>
        </p:spPr>
      </p:pic>
      <p:pic>
        <p:nvPicPr>
          <p:cNvPr id="51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1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TextovéPole 7"/>
          <p:cNvGrpSpPr/>
          <p:nvPr/>
        </p:nvGrpSpPr>
        <p:grpSpPr>
          <a:xfrm>
            <a:off x="334800" y="2286000"/>
            <a:ext cx="1822680" cy="725400"/>
            <a:chOff x="334800" y="2286000"/>
            <a:chExt cx="1822680" cy="725400"/>
          </a:xfrm>
        </p:grpSpPr>
        <p:pic>
          <p:nvPicPr>
            <p:cNvPr id="518" name="TextovéPole 7" descr=""/>
            <p:cNvPicPr/>
            <p:nvPr/>
          </p:nvPicPr>
          <p:blipFill>
            <a:blip r:embed="rId3"/>
            <a:stretch/>
          </p:blipFill>
          <p:spPr>
            <a:xfrm>
              <a:off x="334800" y="2286000"/>
              <a:ext cx="18226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475920" y="2349360"/>
              <a:ext cx="157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sa úsečk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Přímá spojovací čára 8"/>
          <p:cNvSpPr/>
          <p:nvPr/>
        </p:nvSpPr>
        <p:spPr>
          <a:xfrm>
            <a:off x="3635280" y="4149720"/>
            <a:ext cx="31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ovéPole 9"/>
          <p:cNvSpPr/>
          <p:nvPr/>
        </p:nvSpPr>
        <p:spPr>
          <a:xfrm>
            <a:off x="335052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ovéPole 11"/>
          <p:cNvSpPr/>
          <p:nvPr/>
        </p:nvSpPr>
        <p:spPr>
          <a:xfrm>
            <a:off x="673524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Elipsa 13"/>
          <p:cNvSpPr/>
          <p:nvPr/>
        </p:nvSpPr>
        <p:spPr>
          <a:xfrm>
            <a:off x="5148360" y="4076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ovéPole 14"/>
          <p:cNvSpPr/>
          <p:nvPr/>
        </p:nvSpPr>
        <p:spPr>
          <a:xfrm>
            <a:off x="486252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římá spojovací čára 17"/>
          <p:cNvSpPr/>
          <p:nvPr/>
        </p:nvSpPr>
        <p:spPr>
          <a:xfrm>
            <a:off x="5148360" y="2060640"/>
            <a:ext cx="71280" cy="4032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ovéPole 18"/>
          <p:cNvSpPr/>
          <p:nvPr/>
        </p:nvSpPr>
        <p:spPr>
          <a:xfrm>
            <a:off x="5085000" y="1916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Elipsa 19"/>
          <p:cNvSpPr/>
          <p:nvPr/>
        </p:nvSpPr>
        <p:spPr>
          <a:xfrm>
            <a:off x="5076720" y="299736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Elipsa 20"/>
          <p:cNvSpPr/>
          <p:nvPr/>
        </p:nvSpPr>
        <p:spPr>
          <a:xfrm>
            <a:off x="5076720" y="234936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Elipsa 21"/>
          <p:cNvSpPr/>
          <p:nvPr/>
        </p:nvSpPr>
        <p:spPr>
          <a:xfrm>
            <a:off x="5148360" y="479736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22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ovéPole 23"/>
          <p:cNvSpPr/>
          <p:nvPr/>
        </p:nvSpPr>
        <p:spPr>
          <a:xfrm>
            <a:off x="4790520" y="220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ovéPole 24"/>
          <p:cNvSpPr/>
          <p:nvPr/>
        </p:nvSpPr>
        <p:spPr>
          <a:xfrm>
            <a:off x="479052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ovéPole 25"/>
          <p:cNvSpPr/>
          <p:nvPr/>
        </p:nvSpPr>
        <p:spPr>
          <a:xfrm>
            <a:off x="479124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ovéPole 26"/>
          <p:cNvSpPr/>
          <p:nvPr/>
        </p:nvSpPr>
        <p:spPr>
          <a:xfrm>
            <a:off x="486288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ovéPole 27"/>
          <p:cNvSpPr/>
          <p:nvPr/>
        </p:nvSpPr>
        <p:spPr>
          <a:xfrm>
            <a:off x="477000" y="37162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. Osa úse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ovéPole 28"/>
          <p:cNvSpPr/>
          <p:nvPr/>
        </p:nvSpPr>
        <p:spPr>
          <a:xfrm>
            <a:off x="482040" y="436572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 Vyznačení některých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ovéPole 29"/>
          <p:cNvSpPr/>
          <p:nvPr/>
        </p:nvSpPr>
        <p:spPr>
          <a:xfrm>
            <a:off x="480600" y="5013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. Ověření shodn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římá spojovací čára 31"/>
          <p:cNvSpPr/>
          <p:nvPr/>
        </p:nvSpPr>
        <p:spPr>
          <a:xfrm flipV="1">
            <a:off x="3635280" y="3068280"/>
            <a:ext cx="1462320" cy="104940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římá spojovací čára 37"/>
          <p:cNvSpPr/>
          <p:nvPr/>
        </p:nvSpPr>
        <p:spPr>
          <a:xfrm>
            <a:off x="5219640" y="3068640"/>
            <a:ext cx="1563840" cy="10587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římá spojovací čára 40"/>
          <p:cNvSpPr/>
          <p:nvPr/>
        </p:nvSpPr>
        <p:spPr>
          <a:xfrm flipV="1">
            <a:off x="3635280" y="2388960"/>
            <a:ext cx="1490760" cy="1687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římá spojovací čára 43"/>
          <p:cNvSpPr/>
          <p:nvPr/>
        </p:nvSpPr>
        <p:spPr>
          <a:xfrm>
            <a:off x="5126040" y="2389320"/>
            <a:ext cx="1677960" cy="1687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římá spojovací čára 46"/>
          <p:cNvSpPr/>
          <p:nvPr/>
        </p:nvSpPr>
        <p:spPr>
          <a:xfrm flipV="1">
            <a:off x="5292720" y="4189320"/>
            <a:ext cx="1440000" cy="6796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římá spojovací čára 48"/>
          <p:cNvSpPr/>
          <p:nvPr/>
        </p:nvSpPr>
        <p:spPr>
          <a:xfrm flipH="1" flipV="1">
            <a:off x="3686040" y="4189320"/>
            <a:ext cx="1479600" cy="72072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římá spojovací čára 50"/>
          <p:cNvSpPr/>
          <p:nvPr/>
        </p:nvSpPr>
        <p:spPr>
          <a:xfrm flipV="1">
            <a:off x="5292720" y="4189320"/>
            <a:ext cx="1440000" cy="1687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římá spojovací čára 52"/>
          <p:cNvSpPr/>
          <p:nvPr/>
        </p:nvSpPr>
        <p:spPr>
          <a:xfrm flipH="1" flipV="1">
            <a:off x="3686040" y="4189320"/>
            <a:ext cx="1525680" cy="165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délník 53"/>
          <p:cNvSpPr/>
          <p:nvPr/>
        </p:nvSpPr>
        <p:spPr>
          <a:xfrm>
            <a:off x="7286400" y="2276640"/>
            <a:ext cx="116424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K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K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bdélník 54"/>
          <p:cNvSpPr/>
          <p:nvPr/>
        </p:nvSpPr>
        <p:spPr>
          <a:xfrm>
            <a:off x="7286040" y="2997360"/>
            <a:ext cx="111240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délník 55"/>
          <p:cNvSpPr/>
          <p:nvPr/>
        </p:nvSpPr>
        <p:spPr>
          <a:xfrm>
            <a:off x="7286400" y="3645000"/>
            <a:ext cx="124056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bdélník 56"/>
          <p:cNvSpPr/>
          <p:nvPr/>
        </p:nvSpPr>
        <p:spPr>
          <a:xfrm>
            <a:off x="7286760" y="4365720"/>
            <a:ext cx="118872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ovéPole 57"/>
          <p:cNvSpPr/>
          <p:nvPr/>
        </p:nvSpPr>
        <p:spPr>
          <a:xfrm>
            <a:off x="6809760" y="5373720"/>
            <a:ext cx="136800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Zaoblený obdélník 3" descr=""/>
          <p:cNvPicPr/>
          <p:nvPr/>
        </p:nvPicPr>
        <p:blipFill>
          <a:blip r:embed="rId1"/>
          <a:stretch/>
        </p:blipFill>
        <p:spPr>
          <a:xfrm>
            <a:off x="-66600" y="444600"/>
            <a:ext cx="9186840" cy="1780920"/>
          </a:xfrm>
          <a:prstGeom prst="rect">
            <a:avLst/>
          </a:prstGeom>
          <a:ln w="0">
            <a:noFill/>
          </a:ln>
        </p:spPr>
      </p:pic>
      <p:pic>
        <p:nvPicPr>
          <p:cNvPr id="552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53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1835280" y="4724280"/>
            <a:ext cx="5832360" cy="432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é definici je tato definice velice podobn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ovéPole 8"/>
          <p:cNvSpPr/>
          <p:nvPr/>
        </p:nvSpPr>
        <p:spPr>
          <a:xfrm>
            <a:off x="321120" y="3141720"/>
            <a:ext cx="823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ina souměrnosti úsečky (nenulové) AB je {x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ϵ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B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TextovéPole 9"/>
          <p:cNvGrpSpPr/>
          <p:nvPr/>
        </p:nvGrpSpPr>
        <p:grpSpPr>
          <a:xfrm>
            <a:off x="189000" y="2146320"/>
            <a:ext cx="3803400" cy="719280"/>
            <a:chOff x="189000" y="2146320"/>
            <a:chExt cx="3803400" cy="719280"/>
          </a:xfrm>
        </p:grpSpPr>
        <p:pic>
          <p:nvPicPr>
            <p:cNvPr id="558" name="TextovéPole 9" descr=""/>
            <p:cNvPicPr/>
            <p:nvPr/>
          </p:nvPicPr>
          <p:blipFill>
            <a:blip r:embed="rId3"/>
            <a:stretch/>
          </p:blipFill>
          <p:spPr>
            <a:xfrm>
              <a:off x="189000" y="2146320"/>
              <a:ext cx="3803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338760" y="2205000"/>
              <a:ext cx="35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vina souměrnosti úsečk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ovéPole 11"/>
          <p:cNvSpPr/>
          <p:nvPr/>
        </p:nvSpPr>
        <p:spPr>
          <a:xfrm>
            <a:off x="3428280" y="3860640"/>
            <a:ext cx="247140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toto přečte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Zaoblený obdélník 3" descr=""/>
          <p:cNvPicPr/>
          <p:nvPr/>
        </p:nvPicPr>
        <p:blipFill>
          <a:blip r:embed="rId1"/>
          <a:stretch/>
        </p:blipFill>
        <p:spPr>
          <a:xfrm>
            <a:off x="-66600" y="444600"/>
            <a:ext cx="9186840" cy="1780920"/>
          </a:xfrm>
          <a:prstGeom prst="rect">
            <a:avLst/>
          </a:prstGeom>
          <a:ln w="0">
            <a:noFill/>
          </a:ln>
        </p:spPr>
      </p:pic>
      <p:pic>
        <p:nvPicPr>
          <p:cNvPr id="562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63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Rectangle 8"/>
          <p:cNvGrpSpPr/>
          <p:nvPr/>
        </p:nvGrpSpPr>
        <p:grpSpPr>
          <a:xfrm>
            <a:off x="231840" y="2066760"/>
            <a:ext cx="8607240" cy="914400"/>
            <a:chOff x="231840" y="2066760"/>
            <a:chExt cx="8607240" cy="914400"/>
          </a:xfrm>
        </p:grpSpPr>
        <p:pic>
          <p:nvPicPr>
            <p:cNvPr id="566" name="Rectangle 8" descr=""/>
            <p:cNvPicPr/>
            <p:nvPr/>
          </p:nvPicPr>
          <p:blipFill>
            <a:blip r:embed="rId3"/>
            <a:stretch/>
          </p:blipFill>
          <p:spPr>
            <a:xfrm>
              <a:off x="231840" y="2066760"/>
              <a:ext cx="8607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395280" y="2133720"/>
              <a:ext cx="8280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k pomocí shodnosti úseček vyřešíme porovnávání velikosti, aniž bychom měl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vedenou míru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Rectangle 12"/>
          <p:cNvSpPr/>
          <p:nvPr/>
        </p:nvSpPr>
        <p:spPr>
          <a:xfrm>
            <a:off x="3492360" y="3860640"/>
            <a:ext cx="2303640" cy="503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ovéPole 9"/>
          <p:cNvSpPr/>
          <p:nvPr/>
        </p:nvSpPr>
        <p:spPr>
          <a:xfrm>
            <a:off x="438840" y="314172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ocí porovnání úseček, což je binární relace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. Zapisujeme napří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římá spojovací čára 12"/>
          <p:cNvSpPr/>
          <p:nvPr/>
        </p:nvSpPr>
        <p:spPr>
          <a:xfrm flipV="1">
            <a:off x="1116000" y="4869000"/>
            <a:ext cx="151128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římá spojovací čára 14"/>
          <p:cNvSpPr/>
          <p:nvPr/>
        </p:nvSpPr>
        <p:spPr>
          <a:xfrm>
            <a:off x="5148360" y="4941720"/>
            <a:ext cx="2808360" cy="9352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ovéPole 15"/>
          <p:cNvSpPr/>
          <p:nvPr/>
        </p:nvSpPr>
        <p:spPr>
          <a:xfrm>
            <a:off x="830160" y="49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ovéPole 16"/>
          <p:cNvSpPr/>
          <p:nvPr/>
        </p:nvSpPr>
        <p:spPr>
          <a:xfrm>
            <a:off x="263016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ovéPole 17"/>
          <p:cNvSpPr/>
          <p:nvPr/>
        </p:nvSpPr>
        <p:spPr>
          <a:xfrm>
            <a:off x="4790520" y="465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ovéPole 18"/>
          <p:cNvSpPr/>
          <p:nvPr/>
        </p:nvSpPr>
        <p:spPr>
          <a:xfrm>
            <a:off x="7959240" y="573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ovéPole 19"/>
          <p:cNvSpPr/>
          <p:nvPr/>
        </p:nvSpPr>
        <p:spPr>
          <a:xfrm>
            <a:off x="6518880" y="50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Elipsa 20"/>
          <p:cNvSpPr/>
          <p:nvPr/>
        </p:nvSpPr>
        <p:spPr>
          <a:xfrm>
            <a:off x="6516720" y="537372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 21"/>
          <p:cNvSpPr/>
          <p:nvPr/>
        </p:nvSpPr>
        <p:spPr>
          <a:xfrm>
            <a:off x="2894040" y="5229360"/>
            <a:ext cx="116424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G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římá spojovací čára 23"/>
          <p:cNvSpPr/>
          <p:nvPr/>
        </p:nvSpPr>
        <p:spPr>
          <a:xfrm>
            <a:off x="5076720" y="5013360"/>
            <a:ext cx="1460520" cy="48240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Zaoblený obdélník 3" descr=""/>
          <p:cNvPicPr/>
          <p:nvPr/>
        </p:nvPicPr>
        <p:blipFill>
          <a:blip r:embed="rId1"/>
          <a:stretch/>
        </p:blipFill>
        <p:spPr>
          <a:xfrm>
            <a:off x="-66600" y="444600"/>
            <a:ext cx="9186840" cy="1780920"/>
          </a:xfrm>
          <a:prstGeom prst="rect">
            <a:avLst/>
          </a:prstGeom>
          <a:ln w="0">
            <a:noFill/>
          </a:ln>
        </p:spPr>
      </p:pic>
      <p:pic>
        <p:nvPicPr>
          <p:cNvPr id="581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82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Rectangle 8"/>
          <p:cNvGrpSpPr/>
          <p:nvPr/>
        </p:nvGrpSpPr>
        <p:grpSpPr>
          <a:xfrm>
            <a:off x="853920" y="2036880"/>
            <a:ext cx="7356600" cy="742680"/>
            <a:chOff x="853920" y="2036880"/>
            <a:chExt cx="7356600" cy="742680"/>
          </a:xfrm>
        </p:grpSpPr>
        <p:pic>
          <p:nvPicPr>
            <p:cNvPr id="585" name="Rectangle 8" descr=""/>
            <p:cNvPicPr/>
            <p:nvPr/>
          </p:nvPicPr>
          <p:blipFill>
            <a:blip r:embed="rId3"/>
            <a:stretch/>
          </p:blipFill>
          <p:spPr>
            <a:xfrm>
              <a:off x="853920" y="2036880"/>
              <a:ext cx="735660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971640" y="2060640"/>
              <a:ext cx="7127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inice pojmu grafický součet a grafický rozdíl úseček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7" name="Picture 11" descr=""/>
          <p:cNvPicPr/>
          <p:nvPr/>
        </p:nvPicPr>
        <p:blipFill>
          <a:blip r:embed="rId4"/>
          <a:stretch/>
        </p:blipFill>
        <p:spPr>
          <a:xfrm>
            <a:off x="1908000" y="5300640"/>
            <a:ext cx="5029200" cy="5428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588" name="Rectangle 12"/>
          <p:cNvSpPr/>
          <p:nvPr/>
        </p:nvSpPr>
        <p:spPr>
          <a:xfrm>
            <a:off x="2916360" y="4581360"/>
            <a:ext cx="3168360" cy="43200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cký rozdíl úseče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ovéPole 9"/>
          <p:cNvSpPr/>
          <p:nvPr/>
        </p:nvSpPr>
        <p:spPr>
          <a:xfrm>
            <a:off x="405360" y="2852640"/>
            <a:ext cx="5318280" cy="368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sečka PL je grafickým součtem úseček AB a CD k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0" descr=""/>
          <p:cNvPicPr/>
          <p:nvPr/>
        </p:nvPicPr>
        <p:blipFill>
          <a:blip r:embed="rId5"/>
          <a:stretch/>
        </p:blipFill>
        <p:spPr>
          <a:xfrm>
            <a:off x="250920" y="3357720"/>
            <a:ext cx="8734320" cy="95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Zaoblený obdélník 3" descr=""/>
          <p:cNvPicPr/>
          <p:nvPr/>
        </p:nvPicPr>
        <p:blipFill>
          <a:blip r:embed="rId1"/>
          <a:stretch/>
        </p:blipFill>
        <p:spPr>
          <a:xfrm>
            <a:off x="-66600" y="444600"/>
            <a:ext cx="9186840" cy="1780920"/>
          </a:xfrm>
          <a:prstGeom prst="rect">
            <a:avLst/>
          </a:prstGeom>
          <a:ln w="0">
            <a:noFill/>
          </a:ln>
        </p:spPr>
      </p:pic>
      <p:pic>
        <p:nvPicPr>
          <p:cNvPr id="592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93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1" descr=""/>
          <p:cNvPicPr/>
          <p:nvPr/>
        </p:nvPicPr>
        <p:blipFill>
          <a:blip r:embed="rId3"/>
          <a:stretch/>
        </p:blipFill>
        <p:spPr>
          <a:xfrm>
            <a:off x="331920" y="2060640"/>
            <a:ext cx="8812080" cy="1001520"/>
          </a:xfrm>
          <a:prstGeom prst="rect">
            <a:avLst/>
          </a:prstGeom>
          <a:ln w="0">
            <a:noFill/>
          </a:ln>
        </p:spPr>
      </p:pic>
      <p:sp>
        <p:nvSpPr>
          <p:cNvPr id="596" name="Elipsa 8"/>
          <p:cNvSpPr/>
          <p:nvPr/>
        </p:nvSpPr>
        <p:spPr>
          <a:xfrm>
            <a:off x="1547640" y="3860640"/>
            <a:ext cx="14472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lipsa 9"/>
          <p:cNvSpPr/>
          <p:nvPr/>
        </p:nvSpPr>
        <p:spPr>
          <a:xfrm>
            <a:off x="755640" y="479736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Elipsa 11"/>
          <p:cNvSpPr/>
          <p:nvPr/>
        </p:nvSpPr>
        <p:spPr>
          <a:xfrm>
            <a:off x="2268360" y="4724280"/>
            <a:ext cx="14292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ovéPole 15"/>
          <p:cNvSpPr/>
          <p:nvPr/>
        </p:nvSpPr>
        <p:spPr>
          <a:xfrm>
            <a:off x="126216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6"/>
          <p:cNvSpPr/>
          <p:nvPr/>
        </p:nvSpPr>
        <p:spPr>
          <a:xfrm>
            <a:off x="2198160" y="47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ovéPole 17"/>
          <p:cNvSpPr/>
          <p:nvPr/>
        </p:nvSpPr>
        <p:spPr>
          <a:xfrm>
            <a:off x="470880" y="486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Přímá spojovací šipka 19"/>
          <p:cNvCxnSpPr>
            <a:stCxn id="597" idx="1"/>
          </p:cNvCxnSpPr>
          <p:nvPr/>
        </p:nvCxnSpPr>
        <p:spPr>
          <a:xfrm flipV="1">
            <a:off x="776160" y="3141000"/>
            <a:ext cx="1564560" cy="1677240"/>
          </a:xfrm>
          <a:prstGeom prst="straightConnector1">
            <a:avLst/>
          </a:prstGeom>
          <a:ln w="255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603" name="Přímá spojovací šipka 21"/>
          <p:cNvCxnSpPr/>
          <p:nvPr/>
        </p:nvCxnSpPr>
        <p:spPr>
          <a:xfrm flipV="1">
            <a:off x="826560" y="4723920"/>
            <a:ext cx="2737800" cy="145440"/>
          </a:xfrm>
          <a:prstGeom prst="straightConnector1">
            <a:avLst/>
          </a:prstGeom>
          <a:ln w="25560">
            <a:solidFill>
              <a:srgbClr val="af3408"/>
            </a:solidFill>
            <a:miter/>
            <a:tailEnd len="med" type="triangle" w="med"/>
          </a:ln>
        </p:spPr>
      </p:cxnSp>
      <p:sp>
        <p:nvSpPr>
          <p:cNvPr id="604" name="Elipsa 22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Elipsa 23"/>
          <p:cNvSpPr/>
          <p:nvPr/>
        </p:nvSpPr>
        <p:spPr>
          <a:xfrm>
            <a:off x="5343480" y="494172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lipsa 24"/>
          <p:cNvSpPr/>
          <p:nvPr/>
        </p:nvSpPr>
        <p:spPr>
          <a:xfrm>
            <a:off x="7524720" y="479736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ovéPole 25"/>
          <p:cNvSpPr/>
          <p:nvPr/>
        </p:nvSpPr>
        <p:spPr>
          <a:xfrm>
            <a:off x="637488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ovéPole 26"/>
          <p:cNvSpPr/>
          <p:nvPr/>
        </p:nvSpPr>
        <p:spPr>
          <a:xfrm>
            <a:off x="7451640" y="4941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ovéPole 27"/>
          <p:cNvSpPr/>
          <p:nvPr/>
        </p:nvSpPr>
        <p:spPr>
          <a:xfrm>
            <a:off x="505836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Přímá spojovací šipka 28"/>
          <p:cNvCxnSpPr>
            <a:stCxn id="605" idx="1"/>
          </p:cNvCxnSpPr>
          <p:nvPr/>
        </p:nvCxnSpPr>
        <p:spPr>
          <a:xfrm flipV="1">
            <a:off x="5364000" y="3283920"/>
            <a:ext cx="1564560" cy="1678680"/>
          </a:xfrm>
          <a:prstGeom prst="straightConnector1">
            <a:avLst/>
          </a:prstGeom>
          <a:ln w="25560">
            <a:solidFill>
              <a:srgbClr val="af3408"/>
            </a:solidFill>
            <a:miter/>
            <a:tailEnd len="med" type="triangle" w="med"/>
          </a:ln>
        </p:spPr>
      </p:cxnSp>
      <p:cxnSp>
        <p:nvCxnSpPr>
          <p:cNvPr id="611" name="Přímá spojovací šipka 29"/>
          <p:cNvCxnSpPr/>
          <p:nvPr/>
        </p:nvCxnSpPr>
        <p:spPr>
          <a:xfrm flipV="1">
            <a:off x="5435640" y="4868640"/>
            <a:ext cx="2737080" cy="144720"/>
          </a:xfrm>
          <a:prstGeom prst="straightConnector1">
            <a:avLst/>
          </a:prstGeom>
          <a:ln w="25560">
            <a:solidFill>
              <a:srgbClr val="af3408"/>
            </a:solidFill>
            <a:miter/>
            <a:tailEnd len="med" type="triangle" w="med"/>
          </a:ln>
        </p:spPr>
      </p:cxnSp>
      <p:sp>
        <p:nvSpPr>
          <p:cNvPr id="612" name="TextovéPole 30"/>
          <p:cNvSpPr/>
          <p:nvPr/>
        </p:nvSpPr>
        <p:spPr>
          <a:xfrm>
            <a:off x="5726880" y="3789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ovéPole 31"/>
          <p:cNvSpPr/>
          <p:nvPr/>
        </p:nvSpPr>
        <p:spPr>
          <a:xfrm>
            <a:off x="6807240" y="5013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32"/>
          <p:cNvSpPr/>
          <p:nvPr/>
        </p:nvSpPr>
        <p:spPr>
          <a:xfrm>
            <a:off x="6084720" y="400536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Elipsa 33"/>
          <p:cNvSpPr/>
          <p:nvPr/>
        </p:nvSpPr>
        <p:spPr>
          <a:xfrm>
            <a:off x="6875640" y="4869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římá spojovací čára 35"/>
          <p:cNvSpPr/>
          <p:nvPr/>
        </p:nvSpPr>
        <p:spPr>
          <a:xfrm flipV="1">
            <a:off x="5292720" y="4076280"/>
            <a:ext cx="719280" cy="792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římá spojovací čára 36"/>
          <p:cNvSpPr/>
          <p:nvPr/>
        </p:nvSpPr>
        <p:spPr>
          <a:xfrm flipV="1">
            <a:off x="684360" y="3933720"/>
            <a:ext cx="718920" cy="7905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římá spojovací čára 38"/>
          <p:cNvSpPr/>
          <p:nvPr/>
        </p:nvSpPr>
        <p:spPr>
          <a:xfrm flipV="1">
            <a:off x="5508720" y="5084280"/>
            <a:ext cx="1295280" cy="7308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římá spojovací čára 39"/>
          <p:cNvSpPr/>
          <p:nvPr/>
        </p:nvSpPr>
        <p:spPr>
          <a:xfrm flipV="1">
            <a:off x="971640" y="4941360"/>
            <a:ext cx="1296720" cy="716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římá spojovací čára 37"/>
          <p:cNvSpPr/>
          <p:nvPr/>
        </p:nvSpPr>
        <p:spPr>
          <a:xfrm>
            <a:off x="1671480" y="3984480"/>
            <a:ext cx="66852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římá spojovací čára 40"/>
          <p:cNvSpPr/>
          <p:nvPr/>
        </p:nvSpPr>
        <p:spPr>
          <a:xfrm>
            <a:off x="6227640" y="4149720"/>
            <a:ext cx="66996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6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9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pic>
        <p:nvPicPr>
          <p:cNvPr id="23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3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ovéPole 1"/>
          <p:cNvSpPr/>
          <p:nvPr/>
        </p:nvSpPr>
        <p:spPr>
          <a:xfrm>
            <a:off x="511920" y="2268360"/>
            <a:ext cx="82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ná zobr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taková geometrická zobrazení prostoru na sebe sam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terá zachovávají vzdálenosti mezi body prosto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Zaoblený obdélník 4"/>
          <p:cNvGrpSpPr/>
          <p:nvPr/>
        </p:nvGrpSpPr>
        <p:grpSpPr>
          <a:xfrm>
            <a:off x="347760" y="3333600"/>
            <a:ext cx="8265960" cy="1105200"/>
            <a:chOff x="347760" y="3333600"/>
            <a:chExt cx="8265960" cy="1105200"/>
          </a:xfrm>
        </p:grpSpPr>
        <p:pic>
          <p:nvPicPr>
            <p:cNvPr id="239" name="Zaoblený obdélník 4" descr=""/>
            <p:cNvPicPr/>
            <p:nvPr/>
          </p:nvPicPr>
          <p:blipFill>
            <a:blip r:embed="rId3"/>
            <a:stretch/>
          </p:blipFill>
          <p:spPr>
            <a:xfrm>
              <a:off x="347760" y="3333600"/>
              <a:ext cx="82659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41360" y="3403440"/>
              <a:ext cx="8077320" cy="8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 školské geometrii je shodné zobrazení definováno jako zobrazení, které zachovává vzdálenost mezi dvěma bod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ovéPole 5"/>
          <p:cNvSpPr/>
          <p:nvPr/>
        </p:nvSpPr>
        <p:spPr>
          <a:xfrm>
            <a:off x="503640" y="486900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né zobrazení prostoru do sebe se nazývá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Zaoblený obdélník 3" descr=""/>
          <p:cNvPicPr/>
          <p:nvPr/>
        </p:nvPicPr>
        <p:blipFill>
          <a:blip r:embed="rId1"/>
          <a:stretch/>
        </p:blipFill>
        <p:spPr>
          <a:xfrm>
            <a:off x="-6660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623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24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7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8459640" cy="8413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8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8624880" cy="1952640"/>
          </a:xfrm>
          <a:prstGeom prst="rect">
            <a:avLst/>
          </a:prstGeom>
          <a:ln w="0">
            <a:noFill/>
          </a:ln>
        </p:spPr>
      </p:pic>
      <p:sp>
        <p:nvSpPr>
          <p:cNvPr id="628" name="Elipsa 7"/>
          <p:cNvSpPr/>
          <p:nvPr/>
        </p:nvSpPr>
        <p:spPr>
          <a:xfrm>
            <a:off x="4211640" y="3068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Elipsa 8"/>
          <p:cNvSpPr/>
          <p:nvPr/>
        </p:nvSpPr>
        <p:spPr>
          <a:xfrm>
            <a:off x="2843280" y="3500280"/>
            <a:ext cx="1443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9"/>
          <p:cNvSpPr/>
          <p:nvPr/>
        </p:nvSpPr>
        <p:spPr>
          <a:xfrm>
            <a:off x="4211640" y="3860640"/>
            <a:ext cx="1443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ovéPole 11"/>
          <p:cNvSpPr/>
          <p:nvPr/>
        </p:nvSpPr>
        <p:spPr>
          <a:xfrm>
            <a:off x="3926880" y="28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ovéPole 12"/>
          <p:cNvSpPr/>
          <p:nvPr/>
        </p:nvSpPr>
        <p:spPr>
          <a:xfrm>
            <a:off x="255852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ovéPole 13"/>
          <p:cNvSpPr/>
          <p:nvPr/>
        </p:nvSpPr>
        <p:spPr>
          <a:xfrm>
            <a:off x="4067280" y="3933720"/>
            <a:ext cx="3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ovéPole 14"/>
          <p:cNvSpPr/>
          <p:nvPr/>
        </p:nvSpPr>
        <p:spPr>
          <a:xfrm>
            <a:off x="774360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římá spojovací čára 16"/>
          <p:cNvSpPr/>
          <p:nvPr/>
        </p:nvSpPr>
        <p:spPr>
          <a:xfrm flipV="1">
            <a:off x="2865600" y="2852280"/>
            <a:ext cx="2282760" cy="66996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římá spojovací čára 18"/>
          <p:cNvSpPr/>
          <p:nvPr/>
        </p:nvSpPr>
        <p:spPr>
          <a:xfrm>
            <a:off x="2916360" y="3645000"/>
            <a:ext cx="2663640" cy="50472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římá spojovací čára 20"/>
          <p:cNvSpPr/>
          <p:nvPr/>
        </p:nvSpPr>
        <p:spPr>
          <a:xfrm flipV="1">
            <a:off x="2894040" y="3357720"/>
            <a:ext cx="5062680" cy="255600"/>
          </a:xfrm>
          <a:prstGeom prst="line">
            <a:avLst/>
          </a:prstGeom>
          <a:ln w="255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Volný tvar 25"/>
          <p:cNvSpPr/>
          <p:nvPr/>
        </p:nvSpPr>
        <p:spPr>
          <a:xfrm>
            <a:off x="3189240" y="2797200"/>
            <a:ext cx="3143160" cy="716040"/>
          </a:xfrm>
          <a:custGeom>
            <a:avLst/>
            <a:gdLst/>
            <a:ahLst/>
            <a:rect l="l" t="t" r="r" b="b"/>
            <a:pathLst>
              <a:path w="3143250" h="715687">
                <a:moveTo>
                  <a:pt x="0" y="700258"/>
                </a:moveTo>
                <a:cubicBezTo>
                  <a:pt x="15240" y="696448"/>
                  <a:pt x="32081" y="696622"/>
                  <a:pt x="45720" y="688828"/>
                </a:cubicBezTo>
                <a:cubicBezTo>
                  <a:pt x="59755" y="680808"/>
                  <a:pt x="67592" y="664886"/>
                  <a:pt x="80010" y="654538"/>
                </a:cubicBezTo>
                <a:cubicBezTo>
                  <a:pt x="90563" y="645744"/>
                  <a:pt x="102870" y="639298"/>
                  <a:pt x="114300" y="631678"/>
                </a:cubicBezTo>
                <a:cubicBezTo>
                  <a:pt x="125730" y="643108"/>
                  <a:pt x="139624" y="652518"/>
                  <a:pt x="148590" y="665968"/>
                </a:cubicBezTo>
                <a:cubicBezTo>
                  <a:pt x="155273" y="675993"/>
                  <a:pt x="151501" y="691739"/>
                  <a:pt x="160020" y="700258"/>
                </a:cubicBezTo>
                <a:cubicBezTo>
                  <a:pt x="168539" y="708777"/>
                  <a:pt x="182880" y="707878"/>
                  <a:pt x="194310" y="711688"/>
                </a:cubicBezTo>
                <a:cubicBezTo>
                  <a:pt x="228600" y="707878"/>
                  <a:pt x="266321" y="715687"/>
                  <a:pt x="297180" y="700258"/>
                </a:cubicBezTo>
                <a:cubicBezTo>
                  <a:pt x="311231" y="693233"/>
                  <a:pt x="305529" y="669942"/>
                  <a:pt x="308610" y="654538"/>
                </a:cubicBezTo>
                <a:cubicBezTo>
                  <a:pt x="313155" y="631813"/>
                  <a:pt x="307757" y="605611"/>
                  <a:pt x="320040" y="585958"/>
                </a:cubicBezTo>
                <a:cubicBezTo>
                  <a:pt x="329071" y="571509"/>
                  <a:pt x="350520" y="570718"/>
                  <a:pt x="365760" y="563098"/>
                </a:cubicBezTo>
                <a:cubicBezTo>
                  <a:pt x="384810" y="566908"/>
                  <a:pt x="409173" y="560791"/>
                  <a:pt x="422910" y="574528"/>
                </a:cubicBezTo>
                <a:cubicBezTo>
                  <a:pt x="439949" y="591567"/>
                  <a:pt x="432404" y="623058"/>
                  <a:pt x="445770" y="643108"/>
                </a:cubicBezTo>
                <a:cubicBezTo>
                  <a:pt x="453390" y="654538"/>
                  <a:pt x="455720" y="672703"/>
                  <a:pt x="468630" y="677398"/>
                </a:cubicBezTo>
                <a:cubicBezTo>
                  <a:pt x="501054" y="689188"/>
                  <a:pt x="537210" y="685018"/>
                  <a:pt x="571500" y="688828"/>
                </a:cubicBezTo>
                <a:lnTo>
                  <a:pt x="697230" y="677398"/>
                </a:lnTo>
                <a:cubicBezTo>
                  <a:pt x="746760" y="650728"/>
                  <a:pt x="701040" y="605008"/>
                  <a:pt x="731520" y="574528"/>
                </a:cubicBezTo>
                <a:cubicBezTo>
                  <a:pt x="775524" y="530524"/>
                  <a:pt x="752360" y="549204"/>
                  <a:pt x="800100" y="517378"/>
                </a:cubicBezTo>
                <a:cubicBezTo>
                  <a:pt x="826770" y="521188"/>
                  <a:pt x="854305" y="521067"/>
                  <a:pt x="880110" y="528808"/>
                </a:cubicBezTo>
                <a:cubicBezTo>
                  <a:pt x="906715" y="536789"/>
                  <a:pt x="929556" y="570013"/>
                  <a:pt x="948690" y="585958"/>
                </a:cubicBezTo>
                <a:cubicBezTo>
                  <a:pt x="978233" y="610577"/>
                  <a:pt x="982903" y="608792"/>
                  <a:pt x="1017270" y="620248"/>
                </a:cubicBezTo>
                <a:cubicBezTo>
                  <a:pt x="1082040" y="616438"/>
                  <a:pt x="1148090" y="622184"/>
                  <a:pt x="1211580" y="608818"/>
                </a:cubicBezTo>
                <a:cubicBezTo>
                  <a:pt x="1225022" y="605988"/>
                  <a:pt x="1228861" y="587081"/>
                  <a:pt x="1234440" y="574528"/>
                </a:cubicBezTo>
                <a:cubicBezTo>
                  <a:pt x="1243616" y="553881"/>
                  <a:pt x="1263615" y="488361"/>
                  <a:pt x="1268730" y="460228"/>
                </a:cubicBezTo>
                <a:cubicBezTo>
                  <a:pt x="1273549" y="433722"/>
                  <a:pt x="1265881" y="403064"/>
                  <a:pt x="1280160" y="380218"/>
                </a:cubicBezTo>
                <a:cubicBezTo>
                  <a:pt x="1288486" y="366897"/>
                  <a:pt x="1310775" y="373104"/>
                  <a:pt x="1325880" y="368788"/>
                </a:cubicBezTo>
                <a:cubicBezTo>
                  <a:pt x="1337465" y="365478"/>
                  <a:pt x="1348740" y="361168"/>
                  <a:pt x="1360170" y="357358"/>
                </a:cubicBezTo>
                <a:cubicBezTo>
                  <a:pt x="1390650" y="361168"/>
                  <a:pt x="1421975" y="360706"/>
                  <a:pt x="1451610" y="368788"/>
                </a:cubicBezTo>
                <a:cubicBezTo>
                  <a:pt x="1496230" y="380957"/>
                  <a:pt x="1481288" y="393854"/>
                  <a:pt x="1497330" y="425938"/>
                </a:cubicBezTo>
                <a:cubicBezTo>
                  <a:pt x="1503473" y="438225"/>
                  <a:pt x="1514611" y="447675"/>
                  <a:pt x="1520190" y="460228"/>
                </a:cubicBezTo>
                <a:cubicBezTo>
                  <a:pt x="1538298" y="500972"/>
                  <a:pt x="1534869" y="532057"/>
                  <a:pt x="1565910" y="563098"/>
                </a:cubicBezTo>
                <a:cubicBezTo>
                  <a:pt x="1575624" y="572812"/>
                  <a:pt x="1587647" y="580379"/>
                  <a:pt x="1600200" y="585958"/>
                </a:cubicBezTo>
                <a:cubicBezTo>
                  <a:pt x="1622220" y="595745"/>
                  <a:pt x="1668780" y="608818"/>
                  <a:pt x="1668780" y="608818"/>
                </a:cubicBezTo>
                <a:cubicBezTo>
                  <a:pt x="1695450" y="605008"/>
                  <a:pt x="1726061" y="611852"/>
                  <a:pt x="1748790" y="597388"/>
                </a:cubicBezTo>
                <a:cubicBezTo>
                  <a:pt x="1792547" y="569543"/>
                  <a:pt x="1789614" y="532613"/>
                  <a:pt x="1805940" y="494518"/>
                </a:cubicBezTo>
                <a:cubicBezTo>
                  <a:pt x="1812652" y="478857"/>
                  <a:pt x="1820346" y="463592"/>
                  <a:pt x="1828800" y="448798"/>
                </a:cubicBezTo>
                <a:cubicBezTo>
                  <a:pt x="1835616" y="436871"/>
                  <a:pt x="1845517" y="426795"/>
                  <a:pt x="1851660" y="414508"/>
                </a:cubicBezTo>
                <a:cubicBezTo>
                  <a:pt x="1877435" y="362958"/>
                  <a:pt x="1845004" y="395063"/>
                  <a:pt x="1885950" y="345928"/>
                </a:cubicBezTo>
                <a:cubicBezTo>
                  <a:pt x="1931486" y="291285"/>
                  <a:pt x="1905488" y="329646"/>
                  <a:pt x="1954530" y="288778"/>
                </a:cubicBezTo>
                <a:cubicBezTo>
                  <a:pt x="1966948" y="278430"/>
                  <a:pt x="1974049" y="261053"/>
                  <a:pt x="1988820" y="254488"/>
                </a:cubicBezTo>
                <a:cubicBezTo>
                  <a:pt x="2009998" y="245076"/>
                  <a:pt x="2034540" y="246868"/>
                  <a:pt x="2057400" y="243058"/>
                </a:cubicBezTo>
                <a:cubicBezTo>
                  <a:pt x="2087880" y="246868"/>
                  <a:pt x="2121366" y="240751"/>
                  <a:pt x="2148840" y="254488"/>
                </a:cubicBezTo>
                <a:cubicBezTo>
                  <a:pt x="2169035" y="264586"/>
                  <a:pt x="2224174" y="325146"/>
                  <a:pt x="2240280" y="357358"/>
                </a:cubicBezTo>
                <a:cubicBezTo>
                  <a:pt x="2245668" y="368134"/>
                  <a:pt x="2244184" y="382240"/>
                  <a:pt x="2251710" y="391648"/>
                </a:cubicBezTo>
                <a:cubicBezTo>
                  <a:pt x="2260292" y="402375"/>
                  <a:pt x="2274570" y="406888"/>
                  <a:pt x="2286000" y="414508"/>
                </a:cubicBezTo>
                <a:cubicBezTo>
                  <a:pt x="2293620" y="425938"/>
                  <a:pt x="2299146" y="439084"/>
                  <a:pt x="2308860" y="448798"/>
                </a:cubicBezTo>
                <a:cubicBezTo>
                  <a:pt x="2356988" y="496926"/>
                  <a:pt x="2394342" y="467004"/>
                  <a:pt x="2468880" y="460228"/>
                </a:cubicBezTo>
                <a:cubicBezTo>
                  <a:pt x="2480310" y="456418"/>
                  <a:pt x="2493762" y="456324"/>
                  <a:pt x="2503170" y="448798"/>
                </a:cubicBezTo>
                <a:cubicBezTo>
                  <a:pt x="2527870" y="429038"/>
                  <a:pt x="2541905" y="366883"/>
                  <a:pt x="2548890" y="345928"/>
                </a:cubicBezTo>
                <a:lnTo>
                  <a:pt x="2560320" y="311638"/>
                </a:lnTo>
                <a:cubicBezTo>
                  <a:pt x="2564130" y="300208"/>
                  <a:pt x="2569387" y="289162"/>
                  <a:pt x="2571750" y="277348"/>
                </a:cubicBezTo>
                <a:cubicBezTo>
                  <a:pt x="2574854" y="261830"/>
                  <a:pt x="2587692" y="192926"/>
                  <a:pt x="2594610" y="174478"/>
                </a:cubicBezTo>
                <a:cubicBezTo>
                  <a:pt x="2600593" y="158524"/>
                  <a:pt x="2608704" y="143369"/>
                  <a:pt x="2617470" y="128758"/>
                </a:cubicBezTo>
                <a:cubicBezTo>
                  <a:pt x="2631605" y="105199"/>
                  <a:pt x="2636536" y="66841"/>
                  <a:pt x="2663190" y="60178"/>
                </a:cubicBezTo>
                <a:lnTo>
                  <a:pt x="2708910" y="48748"/>
                </a:lnTo>
                <a:cubicBezTo>
                  <a:pt x="2757351" y="16454"/>
                  <a:pt x="2766103" y="0"/>
                  <a:pt x="2846070" y="37318"/>
                </a:cubicBezTo>
                <a:cubicBezTo>
                  <a:pt x="2875366" y="50989"/>
                  <a:pt x="2914650" y="105898"/>
                  <a:pt x="2914650" y="105898"/>
                </a:cubicBezTo>
                <a:cubicBezTo>
                  <a:pt x="2943380" y="192087"/>
                  <a:pt x="2904625" y="85848"/>
                  <a:pt x="2948940" y="174478"/>
                </a:cubicBezTo>
                <a:cubicBezTo>
                  <a:pt x="2967533" y="211663"/>
                  <a:pt x="2950473" y="210301"/>
                  <a:pt x="2983230" y="243058"/>
                </a:cubicBezTo>
                <a:cubicBezTo>
                  <a:pt x="2992944" y="252772"/>
                  <a:pt x="3006090" y="258298"/>
                  <a:pt x="3017520" y="265918"/>
                </a:cubicBezTo>
                <a:cubicBezTo>
                  <a:pt x="3025140" y="277348"/>
                  <a:pt x="3030666" y="290494"/>
                  <a:pt x="3040380" y="300208"/>
                </a:cubicBezTo>
                <a:cubicBezTo>
                  <a:pt x="3056178" y="316006"/>
                  <a:pt x="3086649" y="330779"/>
                  <a:pt x="3108960" y="334498"/>
                </a:cubicBezTo>
                <a:cubicBezTo>
                  <a:pt x="3120234" y="336377"/>
                  <a:pt x="3131820" y="334498"/>
                  <a:pt x="3143250" y="334498"/>
                </a:cubicBezTo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Volný tvar 26"/>
          <p:cNvSpPr/>
          <p:nvPr/>
        </p:nvSpPr>
        <p:spPr>
          <a:xfrm>
            <a:off x="3406680" y="3635280"/>
            <a:ext cx="3372120" cy="571680"/>
          </a:xfrm>
          <a:custGeom>
            <a:avLst/>
            <a:gdLst/>
            <a:ahLst/>
            <a:rect l="l" t="t" r="r" b="b"/>
            <a:pathLst>
              <a:path w="3373055" h="571150">
                <a:moveTo>
                  <a:pt x="0" y="56800"/>
                </a:moveTo>
                <a:cubicBezTo>
                  <a:pt x="11430" y="45370"/>
                  <a:pt x="20840" y="31476"/>
                  <a:pt x="34290" y="22510"/>
                </a:cubicBezTo>
                <a:cubicBezTo>
                  <a:pt x="68056" y="0"/>
                  <a:pt x="99995" y="16316"/>
                  <a:pt x="137160" y="22510"/>
                </a:cubicBezTo>
                <a:cubicBezTo>
                  <a:pt x="140970" y="33940"/>
                  <a:pt x="140071" y="48281"/>
                  <a:pt x="148590" y="56800"/>
                </a:cubicBezTo>
                <a:cubicBezTo>
                  <a:pt x="168017" y="76227"/>
                  <a:pt x="217170" y="102520"/>
                  <a:pt x="217170" y="102520"/>
                </a:cubicBezTo>
                <a:cubicBezTo>
                  <a:pt x="236220" y="98710"/>
                  <a:pt x="257452" y="100729"/>
                  <a:pt x="274320" y="91090"/>
                </a:cubicBezTo>
                <a:cubicBezTo>
                  <a:pt x="292567" y="80663"/>
                  <a:pt x="302743" y="40111"/>
                  <a:pt x="308610" y="22510"/>
                </a:cubicBezTo>
                <a:cubicBezTo>
                  <a:pt x="365760" y="26320"/>
                  <a:pt x="425390" y="16856"/>
                  <a:pt x="480060" y="33940"/>
                </a:cubicBezTo>
                <a:cubicBezTo>
                  <a:pt x="495054" y="38626"/>
                  <a:pt x="485302" y="65221"/>
                  <a:pt x="491490" y="79660"/>
                </a:cubicBezTo>
                <a:cubicBezTo>
                  <a:pt x="508724" y="119872"/>
                  <a:pt x="512114" y="113205"/>
                  <a:pt x="548640" y="125380"/>
                </a:cubicBezTo>
                <a:cubicBezTo>
                  <a:pt x="575310" y="121570"/>
                  <a:pt x="603636" y="123956"/>
                  <a:pt x="628650" y="113950"/>
                </a:cubicBezTo>
                <a:cubicBezTo>
                  <a:pt x="653695" y="103932"/>
                  <a:pt x="670086" y="64227"/>
                  <a:pt x="685800" y="45370"/>
                </a:cubicBezTo>
                <a:cubicBezTo>
                  <a:pt x="696148" y="32952"/>
                  <a:pt x="708660" y="22510"/>
                  <a:pt x="720090" y="11080"/>
                </a:cubicBezTo>
                <a:cubicBezTo>
                  <a:pt x="746760" y="14890"/>
                  <a:pt x="777371" y="8046"/>
                  <a:pt x="800100" y="22510"/>
                </a:cubicBezTo>
                <a:cubicBezTo>
                  <a:pt x="823279" y="37260"/>
                  <a:pt x="837132" y="65026"/>
                  <a:pt x="845820" y="91090"/>
                </a:cubicBezTo>
                <a:cubicBezTo>
                  <a:pt x="853350" y="113679"/>
                  <a:pt x="859967" y="143556"/>
                  <a:pt x="880110" y="159670"/>
                </a:cubicBezTo>
                <a:cubicBezTo>
                  <a:pt x="889518" y="167196"/>
                  <a:pt x="902711" y="168178"/>
                  <a:pt x="914400" y="171100"/>
                </a:cubicBezTo>
                <a:lnTo>
                  <a:pt x="1005840" y="193960"/>
                </a:lnTo>
                <a:cubicBezTo>
                  <a:pt x="1021080" y="190150"/>
                  <a:pt x="1038489" y="191244"/>
                  <a:pt x="1051560" y="182530"/>
                </a:cubicBezTo>
                <a:cubicBezTo>
                  <a:pt x="1062990" y="174910"/>
                  <a:pt x="1065626" y="158793"/>
                  <a:pt x="1074420" y="148240"/>
                </a:cubicBezTo>
                <a:cubicBezTo>
                  <a:pt x="1084768" y="135822"/>
                  <a:pt x="1098362" y="126368"/>
                  <a:pt x="1108710" y="113950"/>
                </a:cubicBezTo>
                <a:cubicBezTo>
                  <a:pt x="1156335" y="56800"/>
                  <a:pt x="1102995" y="98710"/>
                  <a:pt x="1165860" y="56800"/>
                </a:cubicBezTo>
                <a:cubicBezTo>
                  <a:pt x="1215390" y="60610"/>
                  <a:pt x="1265625" y="59075"/>
                  <a:pt x="1314450" y="68230"/>
                </a:cubicBezTo>
                <a:cubicBezTo>
                  <a:pt x="1327952" y="70762"/>
                  <a:pt x="1342597" y="78803"/>
                  <a:pt x="1348740" y="91090"/>
                </a:cubicBezTo>
                <a:cubicBezTo>
                  <a:pt x="1387752" y="169113"/>
                  <a:pt x="1358667" y="178021"/>
                  <a:pt x="1383030" y="251110"/>
                </a:cubicBezTo>
                <a:cubicBezTo>
                  <a:pt x="1398879" y="298657"/>
                  <a:pt x="1428602" y="292971"/>
                  <a:pt x="1474470" y="308260"/>
                </a:cubicBezTo>
                <a:cubicBezTo>
                  <a:pt x="1527190" y="325833"/>
                  <a:pt x="1496946" y="317327"/>
                  <a:pt x="1565910" y="331120"/>
                </a:cubicBezTo>
                <a:cubicBezTo>
                  <a:pt x="1596390" y="327310"/>
                  <a:pt x="1628482" y="330187"/>
                  <a:pt x="1657350" y="319690"/>
                </a:cubicBezTo>
                <a:cubicBezTo>
                  <a:pt x="1694891" y="306039"/>
                  <a:pt x="1688166" y="273055"/>
                  <a:pt x="1714500" y="251110"/>
                </a:cubicBezTo>
                <a:cubicBezTo>
                  <a:pt x="1727590" y="240202"/>
                  <a:pt x="1744980" y="235870"/>
                  <a:pt x="1760220" y="228250"/>
                </a:cubicBezTo>
                <a:cubicBezTo>
                  <a:pt x="1802459" y="164892"/>
                  <a:pt x="1758913" y="215006"/>
                  <a:pt x="1817370" y="182530"/>
                </a:cubicBezTo>
                <a:cubicBezTo>
                  <a:pt x="1935277" y="117026"/>
                  <a:pt x="1842650" y="151243"/>
                  <a:pt x="1920240" y="125380"/>
                </a:cubicBezTo>
                <a:cubicBezTo>
                  <a:pt x="1985242" y="60378"/>
                  <a:pt x="1922653" y="112743"/>
                  <a:pt x="1988820" y="79660"/>
                </a:cubicBezTo>
                <a:cubicBezTo>
                  <a:pt x="2001107" y="73517"/>
                  <a:pt x="2010557" y="62379"/>
                  <a:pt x="2023110" y="56800"/>
                </a:cubicBezTo>
                <a:cubicBezTo>
                  <a:pt x="2045130" y="47013"/>
                  <a:pt x="2091690" y="33940"/>
                  <a:pt x="2091690" y="33940"/>
                </a:cubicBezTo>
                <a:cubicBezTo>
                  <a:pt x="2141220" y="37750"/>
                  <a:pt x="2193498" y="28662"/>
                  <a:pt x="2240280" y="45370"/>
                </a:cubicBezTo>
                <a:cubicBezTo>
                  <a:pt x="2255074" y="50654"/>
                  <a:pt x="2249127" y="75595"/>
                  <a:pt x="2251710" y="91090"/>
                </a:cubicBezTo>
                <a:cubicBezTo>
                  <a:pt x="2256760" y="121389"/>
                  <a:pt x="2260228" y="151951"/>
                  <a:pt x="2263140" y="182530"/>
                </a:cubicBezTo>
                <a:cubicBezTo>
                  <a:pt x="2267850" y="231983"/>
                  <a:pt x="2268408" y="281827"/>
                  <a:pt x="2274570" y="331120"/>
                </a:cubicBezTo>
                <a:cubicBezTo>
                  <a:pt x="2276064" y="343075"/>
                  <a:pt x="2280612" y="354634"/>
                  <a:pt x="2286000" y="365410"/>
                </a:cubicBezTo>
                <a:cubicBezTo>
                  <a:pt x="2292143" y="377697"/>
                  <a:pt x="2299146" y="389986"/>
                  <a:pt x="2308860" y="399700"/>
                </a:cubicBezTo>
                <a:cubicBezTo>
                  <a:pt x="2333260" y="424100"/>
                  <a:pt x="2356080" y="427432"/>
                  <a:pt x="2388870" y="433990"/>
                </a:cubicBezTo>
                <a:cubicBezTo>
                  <a:pt x="2411595" y="438535"/>
                  <a:pt x="2434590" y="441610"/>
                  <a:pt x="2457450" y="445420"/>
                </a:cubicBezTo>
                <a:cubicBezTo>
                  <a:pt x="2468880" y="441610"/>
                  <a:pt x="2483221" y="442509"/>
                  <a:pt x="2491740" y="433990"/>
                </a:cubicBezTo>
                <a:cubicBezTo>
                  <a:pt x="2500259" y="425471"/>
                  <a:pt x="2500248" y="411389"/>
                  <a:pt x="2503170" y="399700"/>
                </a:cubicBezTo>
                <a:cubicBezTo>
                  <a:pt x="2507882" y="380853"/>
                  <a:pt x="2510232" y="361480"/>
                  <a:pt x="2514600" y="342550"/>
                </a:cubicBezTo>
                <a:cubicBezTo>
                  <a:pt x="2555247" y="166415"/>
                  <a:pt x="2516004" y="316179"/>
                  <a:pt x="2560320" y="205390"/>
                </a:cubicBezTo>
                <a:cubicBezTo>
                  <a:pt x="2569269" y="183017"/>
                  <a:pt x="2575560" y="159670"/>
                  <a:pt x="2583180" y="136810"/>
                </a:cubicBezTo>
                <a:cubicBezTo>
                  <a:pt x="2593244" y="106617"/>
                  <a:pt x="2610853" y="43766"/>
                  <a:pt x="2640330" y="33940"/>
                </a:cubicBezTo>
                <a:lnTo>
                  <a:pt x="2674620" y="22510"/>
                </a:lnTo>
                <a:cubicBezTo>
                  <a:pt x="2727960" y="26320"/>
                  <a:pt x="2781978" y="24647"/>
                  <a:pt x="2834640" y="33940"/>
                </a:cubicBezTo>
                <a:cubicBezTo>
                  <a:pt x="2848168" y="36327"/>
                  <a:pt x="2858663" y="47674"/>
                  <a:pt x="2868930" y="56800"/>
                </a:cubicBezTo>
                <a:cubicBezTo>
                  <a:pt x="2930468" y="111500"/>
                  <a:pt x="2930200" y="115633"/>
                  <a:pt x="2971800" y="171100"/>
                </a:cubicBezTo>
                <a:cubicBezTo>
                  <a:pt x="2979420" y="193960"/>
                  <a:pt x="2981294" y="219630"/>
                  <a:pt x="2994660" y="239680"/>
                </a:cubicBezTo>
                <a:cubicBezTo>
                  <a:pt x="3030886" y="294020"/>
                  <a:pt x="3013176" y="260938"/>
                  <a:pt x="3040380" y="342550"/>
                </a:cubicBezTo>
                <a:cubicBezTo>
                  <a:pt x="3044190" y="353980"/>
                  <a:pt x="3049829" y="364956"/>
                  <a:pt x="3051810" y="376840"/>
                </a:cubicBezTo>
                <a:cubicBezTo>
                  <a:pt x="3057523" y="411120"/>
                  <a:pt x="3065974" y="483811"/>
                  <a:pt x="3086100" y="514000"/>
                </a:cubicBezTo>
                <a:cubicBezTo>
                  <a:pt x="3093720" y="525430"/>
                  <a:pt x="3097311" y="541009"/>
                  <a:pt x="3108960" y="548290"/>
                </a:cubicBezTo>
                <a:cubicBezTo>
                  <a:pt x="3129394" y="561061"/>
                  <a:pt x="3177540" y="571150"/>
                  <a:pt x="3177540" y="571150"/>
                </a:cubicBezTo>
                <a:cubicBezTo>
                  <a:pt x="3192194" y="568896"/>
                  <a:pt x="3324871" y="569866"/>
                  <a:pt x="3360420" y="525430"/>
                </a:cubicBezTo>
                <a:cubicBezTo>
                  <a:pt x="3373055" y="509636"/>
                  <a:pt x="3371850" y="496196"/>
                  <a:pt x="3371850" y="47971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Zaoblený obdélník 3" descr=""/>
          <p:cNvPicPr/>
          <p:nvPr/>
        </p:nvPicPr>
        <p:blipFill>
          <a:blip r:embed="rId1"/>
          <a:stretch/>
        </p:blipFill>
        <p:spPr>
          <a:xfrm>
            <a:off x="-42840" y="628560"/>
            <a:ext cx="9186840" cy="1333440"/>
          </a:xfrm>
          <a:prstGeom prst="rect">
            <a:avLst/>
          </a:prstGeom>
          <a:ln w="0">
            <a:noFill/>
          </a:ln>
        </p:spPr>
      </p:pic>
      <p:pic>
        <p:nvPicPr>
          <p:cNvPr id="641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42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6" descr=""/>
          <p:cNvPicPr/>
          <p:nvPr/>
        </p:nvPicPr>
        <p:blipFill>
          <a:blip r:embed="rId3"/>
          <a:stretch/>
        </p:blipFill>
        <p:spPr>
          <a:xfrm>
            <a:off x="755640" y="2205000"/>
            <a:ext cx="7812000" cy="17337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7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8588160" cy="140040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340000" y="4076640"/>
            <a:ext cx="4537080" cy="503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jak je to s kolmostí mimoběž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Zaoblený obdélník 3" descr=""/>
          <p:cNvPicPr/>
          <p:nvPr/>
        </p:nvPicPr>
        <p:blipFill>
          <a:blip r:embed="rId1"/>
          <a:stretch/>
        </p:blipFill>
        <p:spPr>
          <a:xfrm>
            <a:off x="-6660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64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4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468360" y="2421000"/>
            <a:ext cx="3887640" cy="503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a kolmosti mimoběž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8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5905440" cy="2076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"/>
          <p:cNvPicPr/>
          <p:nvPr/>
        </p:nvPicPr>
        <p:blipFill>
          <a:blip r:embed="rId4"/>
          <a:stretch/>
        </p:blipFill>
        <p:spPr>
          <a:xfrm>
            <a:off x="6381720" y="2637000"/>
            <a:ext cx="2762280" cy="2657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Zaoblený obdélník 3" descr=""/>
          <p:cNvPicPr/>
          <p:nvPr/>
        </p:nvPicPr>
        <p:blipFill>
          <a:blip r:embed="rId1"/>
          <a:stretch/>
        </p:blipFill>
        <p:spPr>
          <a:xfrm>
            <a:off x="-6660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655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56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1799280" y="271152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AAAAAA to je vše přátel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90680"/>
          </a:xfrm>
          <a:prstGeom prst="rect">
            <a:avLst/>
          </a:prstGeom>
          <a:ln w="0">
            <a:noFill/>
          </a:ln>
        </p:spPr>
      </p:pic>
      <p:pic>
        <p:nvPicPr>
          <p:cNvPr id="243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44" name="TextovéPole 11"/>
          <p:cNvSpPr/>
          <p:nvPr/>
        </p:nvSpPr>
        <p:spPr>
          <a:xfrm>
            <a:off x="191160" y="623736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dra matematiky a 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ovéPole 12"/>
          <p:cNvSpPr/>
          <p:nvPr/>
        </p:nvSpPr>
        <p:spPr>
          <a:xfrm>
            <a:off x="5598000" y="6237360"/>
            <a:ext cx="46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zita Jana Evangelisty Purky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TextovéPole 8"/>
          <p:cNvGrpSpPr/>
          <p:nvPr/>
        </p:nvGrpSpPr>
        <p:grpSpPr>
          <a:xfrm>
            <a:off x="334800" y="2212920"/>
            <a:ext cx="5774040" cy="725400"/>
            <a:chOff x="334800" y="2212920"/>
            <a:chExt cx="5774040" cy="725400"/>
          </a:xfrm>
        </p:grpSpPr>
        <p:pic>
          <p:nvPicPr>
            <p:cNvPr id="247" name="TextovéPole 8" descr=""/>
            <p:cNvPicPr/>
            <p:nvPr/>
          </p:nvPicPr>
          <p:blipFill>
            <a:blip r:embed="rId3"/>
            <a:stretch/>
          </p:blipFill>
          <p:spPr>
            <a:xfrm>
              <a:off x="334800" y="2212920"/>
              <a:ext cx="57740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86360" y="2276640"/>
              <a:ext cx="553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am v matematice zařadit pojem shodnos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ovéPole 9"/>
          <p:cNvSpPr/>
          <p:nvPr/>
        </p:nvSpPr>
        <p:spPr>
          <a:xfrm>
            <a:off x="3719160" y="3068640"/>
            <a:ext cx="313416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!! Shodnost je relací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TextovéPole 11"/>
          <p:cNvGrpSpPr/>
          <p:nvPr/>
        </p:nvGrpSpPr>
        <p:grpSpPr>
          <a:xfrm>
            <a:off x="480960" y="4157640"/>
            <a:ext cx="2013120" cy="725400"/>
            <a:chOff x="480960" y="4157640"/>
            <a:chExt cx="2013120" cy="725400"/>
          </a:xfrm>
        </p:grpSpPr>
        <p:pic>
          <p:nvPicPr>
            <p:cNvPr id="251" name="TextovéPole 11" descr=""/>
            <p:cNvPicPr/>
            <p:nvPr/>
          </p:nvPicPr>
          <p:blipFill>
            <a:blip r:embed="rId4"/>
            <a:stretch/>
          </p:blipFill>
          <p:spPr>
            <a:xfrm>
              <a:off x="480960" y="4157640"/>
              <a:ext cx="20131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17400" y="422100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 je relac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TextovéPole 12"/>
          <p:cNvGrpSpPr/>
          <p:nvPr/>
        </p:nvGrpSpPr>
        <p:grpSpPr>
          <a:xfrm>
            <a:off x="2925720" y="4157640"/>
            <a:ext cx="2779920" cy="725400"/>
            <a:chOff x="2925720" y="4157640"/>
            <a:chExt cx="2779920" cy="725400"/>
          </a:xfrm>
        </p:grpSpPr>
        <p:pic>
          <p:nvPicPr>
            <p:cNvPr id="254" name="TextovéPole 12" descr=""/>
            <p:cNvPicPr/>
            <p:nvPr/>
          </p:nvPicPr>
          <p:blipFill>
            <a:blip r:embed="rId5"/>
            <a:stretch/>
          </p:blipFill>
          <p:spPr>
            <a:xfrm>
              <a:off x="2925720" y="4157640"/>
              <a:ext cx="27799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067920" y="422100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ké známe relac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TextovéPole 13"/>
          <p:cNvGrpSpPr/>
          <p:nvPr/>
        </p:nvGrpSpPr>
        <p:grpSpPr>
          <a:xfrm>
            <a:off x="6095880" y="4157640"/>
            <a:ext cx="1395360" cy="725400"/>
            <a:chOff x="6095880" y="4157640"/>
            <a:chExt cx="1395360" cy="725400"/>
          </a:xfrm>
        </p:grpSpPr>
        <p:pic>
          <p:nvPicPr>
            <p:cNvPr id="257" name="TextovéPole 13" descr=""/>
            <p:cNvPicPr/>
            <p:nvPr/>
          </p:nvPicPr>
          <p:blipFill>
            <a:blip r:embed="rId6"/>
            <a:stretch/>
          </p:blipFill>
          <p:spPr>
            <a:xfrm>
              <a:off x="6095880" y="4157640"/>
              <a:ext cx="13953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233040" y="422100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na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ovéPole 14"/>
          <p:cNvSpPr/>
          <p:nvPr/>
        </p:nvSpPr>
        <p:spPr>
          <a:xfrm>
            <a:off x="6442560" y="4941720"/>
            <a:ext cx="6883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ovéPole 15"/>
          <p:cNvSpPr/>
          <p:nvPr/>
        </p:nvSpPr>
        <p:spPr>
          <a:xfrm>
            <a:off x="3353400" y="5732640"/>
            <a:ext cx="131472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|AB| &lt; |C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16"/>
          <p:cNvSpPr/>
          <p:nvPr/>
        </p:nvSpPr>
        <p:spPr>
          <a:xfrm>
            <a:off x="4937400" y="5732640"/>
            <a:ext cx="131508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|AB|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|C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ovéPole 17"/>
          <p:cNvSpPr/>
          <p:nvPr/>
        </p:nvSpPr>
        <p:spPr>
          <a:xfrm>
            <a:off x="6450120" y="5732640"/>
            <a:ext cx="129960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|AB|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|C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Přímá spojovací šipka 19"/>
          <p:cNvCxnSpPr>
            <a:stCxn id="259" idx="1"/>
            <a:endCxn id="260" idx="0"/>
          </p:cNvCxnSpPr>
          <p:nvPr/>
        </p:nvCxnSpPr>
        <p:spPr>
          <a:xfrm flipH="1">
            <a:off x="4011120" y="5171760"/>
            <a:ext cx="2432880" cy="5612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4" name="Přímá spojovací šipka 21"/>
          <p:cNvCxnSpPr>
            <a:stCxn id="259" idx="1"/>
          </p:cNvCxnSpPr>
          <p:nvPr/>
        </p:nvCxnSpPr>
        <p:spPr>
          <a:xfrm flipH="1">
            <a:off x="5724000" y="5171760"/>
            <a:ext cx="720000" cy="5612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5" name="Přímá spojovací šipka 23"/>
          <p:cNvCxnSpPr>
            <a:stCxn id="259" idx="2"/>
            <a:endCxn id="262" idx="0"/>
          </p:cNvCxnSpPr>
          <p:nvPr/>
        </p:nvCxnSpPr>
        <p:spPr>
          <a:xfrm>
            <a:off x="6786720" y="5402160"/>
            <a:ext cx="313200" cy="3312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pic>
        <p:nvPicPr>
          <p:cNvPr id="267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68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TextovéPole 7"/>
          <p:cNvGrpSpPr/>
          <p:nvPr/>
        </p:nvGrpSpPr>
        <p:grpSpPr>
          <a:xfrm>
            <a:off x="3213000" y="2146320"/>
            <a:ext cx="2779920" cy="719280"/>
            <a:chOff x="3213000" y="2146320"/>
            <a:chExt cx="2779920" cy="719280"/>
          </a:xfrm>
        </p:grpSpPr>
        <p:pic>
          <p:nvPicPr>
            <p:cNvPr id="271" name="TextovéPole 7" descr=""/>
            <p:cNvPicPr/>
            <p:nvPr/>
          </p:nvPicPr>
          <p:blipFill>
            <a:blip r:embed="rId3"/>
            <a:stretch/>
          </p:blipFill>
          <p:spPr>
            <a:xfrm>
              <a:off x="3213000" y="2146320"/>
              <a:ext cx="27799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356640" y="220500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ké známe relac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ovéPole 8"/>
          <p:cNvSpPr/>
          <p:nvPr/>
        </p:nvSpPr>
        <p:spPr>
          <a:xfrm>
            <a:off x="616680" y="3213000"/>
            <a:ext cx="14698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x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ovéPole 9"/>
          <p:cNvSpPr/>
          <p:nvPr/>
        </p:nvSpPr>
        <p:spPr>
          <a:xfrm>
            <a:off x="474840" y="4076640"/>
            <a:ext cx="18266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refex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ovéPole 11"/>
          <p:cNvSpPr/>
          <p:nvPr/>
        </p:nvSpPr>
        <p:spPr>
          <a:xfrm>
            <a:off x="3641400" y="3213000"/>
            <a:ext cx="15721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etr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ovéPole 12"/>
          <p:cNvSpPr/>
          <p:nvPr/>
        </p:nvSpPr>
        <p:spPr>
          <a:xfrm>
            <a:off x="3427200" y="4076640"/>
            <a:ext cx="20642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symetr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ovéPole 13"/>
          <p:cNvSpPr/>
          <p:nvPr/>
        </p:nvSpPr>
        <p:spPr>
          <a:xfrm>
            <a:off x="6516720" y="3357720"/>
            <a:ext cx="15386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ovéPole 14"/>
          <p:cNvSpPr/>
          <p:nvPr/>
        </p:nvSpPr>
        <p:spPr>
          <a:xfrm>
            <a:off x="479520" y="4797360"/>
            <a:ext cx="33872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ární – binární - tern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ovéPole 15"/>
          <p:cNvSpPr/>
          <p:nvPr/>
        </p:nvSpPr>
        <p:spPr>
          <a:xfrm>
            <a:off x="6808680" y="4149720"/>
            <a:ext cx="1099800" cy="3988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kl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ovéPole 16"/>
          <p:cNvSpPr/>
          <p:nvPr/>
        </p:nvSpPr>
        <p:spPr>
          <a:xfrm>
            <a:off x="5509440" y="4797360"/>
            <a:ext cx="1738080" cy="3988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chotom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Přímá spojovací šipka 18"/>
          <p:cNvCxnSpPr>
            <a:stCxn id="273" idx="0"/>
          </p:cNvCxnSpPr>
          <p:nvPr/>
        </p:nvCxnSpPr>
        <p:spPr>
          <a:xfrm flipV="1">
            <a:off x="1352160" y="2435040"/>
            <a:ext cx="1996200" cy="7783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2" name="Přímá spojovací šipka 20"/>
          <p:cNvCxnSpPr>
            <a:stCxn id="274" idx="0"/>
          </p:cNvCxnSpPr>
          <p:nvPr/>
        </p:nvCxnSpPr>
        <p:spPr>
          <a:xfrm flipV="1">
            <a:off x="1387440" y="2434680"/>
            <a:ext cx="1961280" cy="16419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3" name="Přímá spojovací šipka 22"/>
          <p:cNvCxnSpPr>
            <a:stCxn id="275" idx="0"/>
          </p:cNvCxnSpPr>
          <p:nvPr/>
        </p:nvCxnSpPr>
        <p:spPr>
          <a:xfrm flipV="1">
            <a:off x="4427280" y="2666520"/>
            <a:ext cx="199080" cy="546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4" name="Přímá spojovací šipka 24"/>
          <p:cNvCxnSpPr>
            <a:stCxn id="276" idx="0"/>
          </p:cNvCxnSpPr>
          <p:nvPr/>
        </p:nvCxnSpPr>
        <p:spPr>
          <a:xfrm flipV="1">
            <a:off x="4458960" y="2666520"/>
            <a:ext cx="167040" cy="1410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5" name="Přímá spojovací šipka 26"/>
          <p:cNvCxnSpPr>
            <a:stCxn id="277" idx="0"/>
          </p:cNvCxnSpPr>
          <p:nvPr/>
        </p:nvCxnSpPr>
        <p:spPr>
          <a:xfrm flipH="1" flipV="1">
            <a:off x="5903640" y="2435040"/>
            <a:ext cx="1381680" cy="9230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6" name="Přímá spojovací šipka 28"/>
          <p:cNvCxnSpPr>
            <a:stCxn id="279" idx="0"/>
          </p:cNvCxnSpPr>
          <p:nvPr/>
        </p:nvCxnSpPr>
        <p:spPr>
          <a:xfrm flipH="1" flipV="1">
            <a:off x="5903280" y="2435040"/>
            <a:ext cx="1456200" cy="17150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7" name="Přímá spojovací šipka 30"/>
          <p:cNvCxnSpPr>
            <a:stCxn id="278" idx="0"/>
          </p:cNvCxnSpPr>
          <p:nvPr/>
        </p:nvCxnSpPr>
        <p:spPr>
          <a:xfrm flipV="1">
            <a:off x="2172960" y="2707560"/>
            <a:ext cx="1607400" cy="20898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8" name="Přímá spojovací šipka 32"/>
          <p:cNvCxnSpPr>
            <a:stCxn id="280" idx="0"/>
          </p:cNvCxnSpPr>
          <p:nvPr/>
        </p:nvCxnSpPr>
        <p:spPr>
          <a:xfrm flipH="1" flipV="1">
            <a:off x="5292360" y="2707560"/>
            <a:ext cx="1086480" cy="20898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grpSp>
        <p:nvGrpSpPr>
          <p:cNvPr id="289" name="TextovéPole 35"/>
          <p:cNvGrpSpPr/>
          <p:nvPr/>
        </p:nvGrpSpPr>
        <p:grpSpPr>
          <a:xfrm>
            <a:off x="1920960" y="5529240"/>
            <a:ext cx="1919160" cy="719280"/>
            <a:chOff x="1920960" y="5529240"/>
            <a:chExt cx="1919160" cy="719280"/>
          </a:xfrm>
        </p:grpSpPr>
        <p:pic>
          <p:nvPicPr>
            <p:cNvPr id="290" name="TextovéPole 35" descr=""/>
            <p:cNvPicPr/>
            <p:nvPr/>
          </p:nvPicPr>
          <p:blipFill>
            <a:blip r:embed="rId4"/>
            <a:stretch/>
          </p:blipFill>
          <p:spPr>
            <a:xfrm>
              <a:off x="1920960" y="5529240"/>
              <a:ext cx="19191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057760" y="558972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kvival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TextovéPole 36"/>
          <p:cNvGrpSpPr/>
          <p:nvPr/>
        </p:nvGrpSpPr>
        <p:grpSpPr>
          <a:xfrm>
            <a:off x="5157720" y="5529240"/>
            <a:ext cx="1839960" cy="719280"/>
            <a:chOff x="5157720" y="5529240"/>
            <a:chExt cx="1839960" cy="719280"/>
          </a:xfrm>
        </p:grpSpPr>
        <p:pic>
          <p:nvPicPr>
            <p:cNvPr id="293" name="TextovéPole 36" descr=""/>
            <p:cNvPicPr/>
            <p:nvPr/>
          </p:nvPicPr>
          <p:blipFill>
            <a:blip r:embed="rId5"/>
            <a:stretch/>
          </p:blipFill>
          <p:spPr>
            <a:xfrm>
              <a:off x="5157720" y="5529240"/>
              <a:ext cx="1839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300640" y="558972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pořádá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Zaoblený obdélník 3" descr=""/>
          <p:cNvPicPr/>
          <p:nvPr/>
        </p:nvPicPr>
        <p:blipFill>
          <a:blip r:embed="rId1"/>
          <a:stretch/>
        </p:blipFill>
        <p:spPr>
          <a:xfrm>
            <a:off x="-42840" y="554040"/>
            <a:ext cx="9186840" cy="1671480"/>
          </a:xfrm>
          <a:prstGeom prst="rect">
            <a:avLst/>
          </a:prstGeom>
          <a:ln w="0">
            <a:noFill/>
          </a:ln>
        </p:spPr>
      </p:pic>
      <p:pic>
        <p:nvPicPr>
          <p:cNvPr id="29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9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TextovéPole 6"/>
          <p:cNvGrpSpPr/>
          <p:nvPr/>
        </p:nvGrpSpPr>
        <p:grpSpPr>
          <a:xfrm>
            <a:off x="480960" y="2146320"/>
            <a:ext cx="8004240" cy="719280"/>
            <a:chOff x="480960" y="2146320"/>
            <a:chExt cx="8004240" cy="719280"/>
          </a:xfrm>
        </p:grpSpPr>
        <p:pic>
          <p:nvPicPr>
            <p:cNvPr id="300" name="TextovéPole 6" descr=""/>
            <p:cNvPicPr/>
            <p:nvPr/>
          </p:nvPicPr>
          <p:blipFill>
            <a:blip r:embed="rId3"/>
            <a:stretch/>
          </p:blipFill>
          <p:spPr>
            <a:xfrm>
              <a:off x="480960" y="2146320"/>
              <a:ext cx="80042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40800" y="2205000"/>
              <a:ext cx="776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ložením shodných zobrazení vznikne opět shodné zobrazení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TextovéPole 7"/>
          <p:cNvGrpSpPr/>
          <p:nvPr/>
        </p:nvGrpSpPr>
        <p:grpSpPr>
          <a:xfrm>
            <a:off x="2494080" y="4303800"/>
            <a:ext cx="3827520" cy="718920"/>
            <a:chOff x="2494080" y="4303800"/>
            <a:chExt cx="3827520" cy="718920"/>
          </a:xfrm>
        </p:grpSpPr>
        <p:pic>
          <p:nvPicPr>
            <p:cNvPr id="303" name="TextovéPole 7" descr=""/>
            <p:cNvPicPr/>
            <p:nvPr/>
          </p:nvPicPr>
          <p:blipFill>
            <a:blip r:embed="rId4"/>
            <a:stretch/>
          </p:blipFill>
          <p:spPr>
            <a:xfrm>
              <a:off x="2494080" y="4303800"/>
              <a:ext cx="38275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2641320" y="4365720"/>
              <a:ext cx="35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dné zobrazení je prosté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TextovéPole 8"/>
          <p:cNvGrpSpPr/>
          <p:nvPr/>
        </p:nvGrpSpPr>
        <p:grpSpPr>
          <a:xfrm>
            <a:off x="480960" y="2865600"/>
            <a:ext cx="8089920" cy="718920"/>
            <a:chOff x="480960" y="2865600"/>
            <a:chExt cx="8089920" cy="718920"/>
          </a:xfrm>
        </p:grpSpPr>
        <p:pic>
          <p:nvPicPr>
            <p:cNvPr id="306" name="TextovéPole 8" descr=""/>
            <p:cNvPicPr/>
            <p:nvPr/>
          </p:nvPicPr>
          <p:blipFill>
            <a:blip r:embed="rId5"/>
            <a:stretch/>
          </p:blipFill>
          <p:spPr>
            <a:xfrm>
              <a:off x="480960" y="2865600"/>
              <a:ext cx="8089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40800" y="2924280"/>
              <a:ext cx="78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 každé shodné zobrazení je inverzní zobrazení opět shodné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TextovéPole 9"/>
          <p:cNvGrpSpPr/>
          <p:nvPr/>
        </p:nvGrpSpPr>
        <p:grpSpPr>
          <a:xfrm>
            <a:off x="2494080" y="3584520"/>
            <a:ext cx="3930480" cy="719280"/>
            <a:chOff x="2494080" y="3584520"/>
            <a:chExt cx="3930480" cy="719280"/>
          </a:xfrm>
        </p:grpSpPr>
        <p:pic>
          <p:nvPicPr>
            <p:cNvPr id="309" name="TextovéPole 9" descr=""/>
            <p:cNvPicPr/>
            <p:nvPr/>
          </p:nvPicPr>
          <p:blipFill>
            <a:blip r:embed="rId6"/>
            <a:stretch/>
          </p:blipFill>
          <p:spPr>
            <a:xfrm>
              <a:off x="2494080" y="3584520"/>
              <a:ext cx="39304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640240" y="3645000"/>
              <a:ext cx="36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ta je shodné zobrazení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TextovéPole 11"/>
          <p:cNvGrpSpPr/>
          <p:nvPr/>
        </p:nvGrpSpPr>
        <p:grpSpPr>
          <a:xfrm>
            <a:off x="-1440" y="5022720"/>
            <a:ext cx="9010800" cy="1092240"/>
            <a:chOff x="-1440" y="5022720"/>
            <a:chExt cx="9010800" cy="1092240"/>
          </a:xfrm>
        </p:grpSpPr>
        <p:pic>
          <p:nvPicPr>
            <p:cNvPr id="312" name="TextovéPole 11" descr=""/>
            <p:cNvPicPr/>
            <p:nvPr/>
          </p:nvPicPr>
          <p:blipFill>
            <a:blip r:embed="rId7"/>
            <a:stretch/>
          </p:blipFill>
          <p:spPr>
            <a:xfrm>
              <a:off x="122400" y="5022720"/>
              <a:ext cx="86868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-1440" y="5084640"/>
              <a:ext cx="901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šechny shodnosti euklidovského prostoru tvoří s operací skládání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obrazení grupu shodností, tzv. Euklidovskou grupu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Zaoblený obdélník 3" descr=""/>
          <p:cNvPicPr/>
          <p:nvPr/>
        </p:nvPicPr>
        <p:blipFill>
          <a:blip r:embed="rId1"/>
          <a:stretch/>
        </p:blipFill>
        <p:spPr>
          <a:xfrm>
            <a:off x="-23760" y="554040"/>
            <a:ext cx="9191520" cy="1676520"/>
          </a:xfrm>
          <a:prstGeom prst="rect">
            <a:avLst/>
          </a:prstGeom>
          <a:ln w="0">
            <a:noFill/>
          </a:ln>
        </p:spPr>
      </p:pic>
      <p:pic>
        <p:nvPicPr>
          <p:cNvPr id="315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16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ovéPole 8"/>
          <p:cNvSpPr/>
          <p:nvPr/>
        </p:nvSpPr>
        <p:spPr>
          <a:xfrm>
            <a:off x="414360" y="2349360"/>
            <a:ext cx="856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to axiomy jsou již velice blízké uvažování dítěte na základní škole, k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dné je to, co se navzájem překrývá. Pomocí pojmu shodnosti úseček se nadá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ují pojmy jako shodnost úhlů, shodnost trojúhelníků (věty o shod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úhelníků), střed úsečky ap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ovéPole 6"/>
          <p:cNvSpPr/>
          <p:nvPr/>
        </p:nvSpPr>
        <p:spPr>
          <a:xfrm>
            <a:off x="923040" y="4292640"/>
            <a:ext cx="711180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kuste se sami následující axiomy ilustrovat obráz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Zaoblený obdélník 3" descr=""/>
          <p:cNvPicPr/>
          <p:nvPr/>
        </p:nvPicPr>
        <p:blipFill>
          <a:blip r:embed="rId1"/>
          <a:stretch/>
        </p:blipFill>
        <p:spPr>
          <a:xfrm>
            <a:off x="-23760" y="554040"/>
            <a:ext cx="9191520" cy="1676520"/>
          </a:xfrm>
          <a:prstGeom prst="rect">
            <a:avLst/>
          </a:prstGeom>
          <a:ln w="0">
            <a:noFill/>
          </a:ln>
        </p:spPr>
      </p:pic>
      <p:pic>
        <p:nvPicPr>
          <p:cNvPr id="321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22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ovéPole 6"/>
          <p:cNvSpPr/>
          <p:nvPr/>
        </p:nvSpPr>
        <p:spPr>
          <a:xfrm>
            <a:off x="486720" y="2349360"/>
            <a:ext cx="8375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Je-li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 A ≠ B a C≠D. Pro každé dva různé body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chť AB je úsečka, CD polopřímka. Pak existuje jediný bod E polopřím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, pro který plat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Elipsa 6"/>
          <p:cNvSpPr/>
          <p:nvPr/>
        </p:nvSpPr>
        <p:spPr>
          <a:xfrm>
            <a:off x="1042920" y="4653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lipsa 7"/>
          <p:cNvSpPr/>
          <p:nvPr/>
        </p:nvSpPr>
        <p:spPr>
          <a:xfrm>
            <a:off x="4500720" y="4653000"/>
            <a:ext cx="1425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lipsa 8"/>
          <p:cNvSpPr/>
          <p:nvPr/>
        </p:nvSpPr>
        <p:spPr>
          <a:xfrm>
            <a:off x="1403280" y="537372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Elipsa 9"/>
          <p:cNvSpPr/>
          <p:nvPr/>
        </p:nvSpPr>
        <p:spPr>
          <a:xfrm>
            <a:off x="2700360" y="537372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římá spojovací čára 12"/>
          <p:cNvSpPr/>
          <p:nvPr/>
        </p:nvSpPr>
        <p:spPr>
          <a:xfrm>
            <a:off x="1116000" y="4724280"/>
            <a:ext cx="3456000" cy="0"/>
          </a:xfrm>
          <a:prstGeom prst="line">
            <a:avLst/>
          </a:prstGeom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Přímá spojovací šipka 15"/>
          <p:cNvCxnSpPr/>
          <p:nvPr/>
        </p:nvCxnSpPr>
        <p:spPr>
          <a:xfrm>
            <a:off x="1476000" y="5444640"/>
            <a:ext cx="4825080" cy="1080"/>
          </a:xfrm>
          <a:prstGeom prst="straightConnector1">
            <a:avLst/>
          </a:prstGeom>
          <a:ln w="2232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331" name="TextovéPole 16"/>
          <p:cNvSpPr/>
          <p:nvPr/>
        </p:nvSpPr>
        <p:spPr>
          <a:xfrm>
            <a:off x="83016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ovéPole 17"/>
          <p:cNvSpPr/>
          <p:nvPr/>
        </p:nvSpPr>
        <p:spPr>
          <a:xfrm>
            <a:off x="44308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ovéPole 18"/>
          <p:cNvSpPr/>
          <p:nvPr/>
        </p:nvSpPr>
        <p:spPr>
          <a:xfrm>
            <a:off x="1190160" y="54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ovéPole 19"/>
          <p:cNvSpPr/>
          <p:nvPr/>
        </p:nvSpPr>
        <p:spPr>
          <a:xfrm>
            <a:off x="2487240" y="54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ovéPole 20"/>
          <p:cNvSpPr/>
          <p:nvPr/>
        </p:nvSpPr>
        <p:spPr>
          <a:xfrm>
            <a:off x="4862520" y="54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Elipsa 21"/>
          <p:cNvSpPr/>
          <p:nvPr/>
        </p:nvSpPr>
        <p:spPr>
          <a:xfrm>
            <a:off x="4932360" y="537372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římá spojovací čára 22"/>
          <p:cNvSpPr/>
          <p:nvPr/>
        </p:nvSpPr>
        <p:spPr>
          <a:xfrm>
            <a:off x="1547640" y="5445000"/>
            <a:ext cx="3456000" cy="0"/>
          </a:xfrm>
          <a:prstGeom prst="line">
            <a:avLst/>
          </a:prstGeom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Zaoblený obdélník 3" descr=""/>
          <p:cNvPicPr/>
          <p:nvPr/>
        </p:nvPicPr>
        <p:blipFill>
          <a:blip r:embed="rId1"/>
          <a:stretch/>
        </p:blipFill>
        <p:spPr>
          <a:xfrm>
            <a:off x="-23760" y="554040"/>
            <a:ext cx="9191520" cy="1676520"/>
          </a:xfrm>
          <a:prstGeom prst="rect">
            <a:avLst/>
          </a:prstGeom>
          <a:ln w="0">
            <a:noFill/>
          </a:ln>
        </p:spPr>
      </p:pic>
      <p:pic>
        <p:nvPicPr>
          <p:cNvPr id="339" name="Obdélník 10" descr=""/>
          <p:cNvPicPr/>
          <p:nvPr/>
        </p:nvPicPr>
        <p:blipFill>
          <a:blip r:embed="rId2"/>
          <a:stretch/>
        </p:blipFill>
        <p:spPr>
          <a:xfrm>
            <a:off x="-23760" y="6145200"/>
            <a:ext cx="9191520" cy="328680"/>
          </a:xfrm>
          <a:prstGeom prst="rect">
            <a:avLst/>
          </a:prstGeom>
          <a:ln w="0">
            <a:noFill/>
          </a:ln>
        </p:spPr>
      </p:pic>
      <p:sp>
        <p:nvSpPr>
          <p:cNvPr id="340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ovéPole 6"/>
          <p:cNvSpPr/>
          <p:nvPr/>
        </p:nvSpPr>
        <p:spPr>
          <a:xfrm>
            <a:off x="498600" y="2349360"/>
            <a:ext cx="86180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Je-li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k 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je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ží-li bod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zi body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d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zi body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latí-li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shod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´C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je shodné s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´C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k plat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´B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ovéPole 6"/>
          <p:cNvSpPr/>
          <p:nvPr/>
        </p:nvSpPr>
        <p:spPr>
          <a:xfrm>
            <a:off x="1189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ovéPole 7"/>
          <p:cNvSpPr/>
          <p:nvPr/>
        </p:nvSpPr>
        <p:spPr>
          <a:xfrm>
            <a:off x="327924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ovéPole 8"/>
          <p:cNvSpPr/>
          <p:nvPr/>
        </p:nvSpPr>
        <p:spPr>
          <a:xfrm>
            <a:off x="219816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Elipsa 13"/>
          <p:cNvSpPr/>
          <p:nvPr/>
        </p:nvSpPr>
        <p:spPr>
          <a:xfrm>
            <a:off x="2340000" y="458136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lipsa 14"/>
          <p:cNvSpPr/>
          <p:nvPr/>
        </p:nvSpPr>
        <p:spPr>
          <a:xfrm>
            <a:off x="1332000" y="458136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Elipsa 15"/>
          <p:cNvSpPr/>
          <p:nvPr/>
        </p:nvSpPr>
        <p:spPr>
          <a:xfrm>
            <a:off x="3419640" y="458136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ovéPole 19"/>
          <p:cNvSpPr/>
          <p:nvPr/>
        </p:nvSpPr>
        <p:spPr>
          <a:xfrm>
            <a:off x="4646520" y="4653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ovéPole 20"/>
          <p:cNvSpPr/>
          <p:nvPr/>
        </p:nvSpPr>
        <p:spPr>
          <a:xfrm>
            <a:off x="6735960" y="4653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ovéPole 21"/>
          <p:cNvSpPr/>
          <p:nvPr/>
        </p:nvSpPr>
        <p:spPr>
          <a:xfrm>
            <a:off x="5654880" y="4653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lipsa 22"/>
          <p:cNvSpPr/>
          <p:nvPr/>
        </p:nvSpPr>
        <p:spPr>
          <a:xfrm>
            <a:off x="5796000" y="4508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lipsa 23"/>
          <p:cNvSpPr/>
          <p:nvPr/>
        </p:nvSpPr>
        <p:spPr>
          <a:xfrm>
            <a:off x="4788000" y="4508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lipsa 24"/>
          <p:cNvSpPr/>
          <p:nvPr/>
        </p:nvSpPr>
        <p:spPr>
          <a:xfrm>
            <a:off x="6875640" y="4508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římá spojovací čára 26"/>
          <p:cNvSpPr/>
          <p:nvPr/>
        </p:nvSpPr>
        <p:spPr>
          <a:xfrm>
            <a:off x="1352520" y="4602240"/>
            <a:ext cx="2211480" cy="5076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římá spojovací čára 27"/>
          <p:cNvSpPr/>
          <p:nvPr/>
        </p:nvSpPr>
        <p:spPr>
          <a:xfrm>
            <a:off x="4859280" y="4581360"/>
            <a:ext cx="2139840" cy="5112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ovéPole 29"/>
          <p:cNvSpPr/>
          <p:nvPr/>
        </p:nvSpPr>
        <p:spPr>
          <a:xfrm>
            <a:off x="1974600" y="5445000"/>
            <a:ext cx="39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´C´ ˄ B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´C´ → AB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´B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ovéPole 30"/>
          <p:cNvSpPr/>
          <p:nvPr/>
        </p:nvSpPr>
        <p:spPr>
          <a:xfrm>
            <a:off x="1379160" y="3933720"/>
            <a:ext cx="12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´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ovéPole 31"/>
          <p:cNvSpPr/>
          <p:nvPr/>
        </p:nvSpPr>
        <p:spPr>
          <a:xfrm>
            <a:off x="3541320" y="3933720"/>
            <a:ext cx="12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´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ovéPole 32"/>
          <p:cNvSpPr/>
          <p:nvPr/>
        </p:nvSpPr>
        <p:spPr>
          <a:xfrm>
            <a:off x="5555160" y="39337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´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lipsa 33"/>
          <p:cNvSpPr/>
          <p:nvPr/>
        </p:nvSpPr>
        <p:spPr>
          <a:xfrm>
            <a:off x="1835280" y="5373720"/>
            <a:ext cx="4249440" cy="503280"/>
          </a:xfrm>
          <a:prstGeom prst="ellipse">
            <a:avLst/>
          </a:prstGeom>
          <a:solidFill>
            <a:srgbClr val="ffff00">
              <a:alpha val="21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ovéPole 34"/>
          <p:cNvSpPr/>
          <p:nvPr/>
        </p:nvSpPr>
        <p:spPr>
          <a:xfrm>
            <a:off x="6587280" y="5373720"/>
            <a:ext cx="16070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zi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Přímá spojovací šipka 36"/>
          <p:cNvCxnSpPr>
            <a:stCxn id="361" idx="6"/>
            <a:endCxn id="362" idx="1"/>
          </p:cNvCxnSpPr>
          <p:nvPr/>
        </p:nvCxnSpPr>
        <p:spPr>
          <a:xfrm flipV="1">
            <a:off x="6084720" y="5603400"/>
            <a:ext cx="504000" cy="216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>
    <p:wipe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Zaoblený obdélník 3" descr=""/>
          <p:cNvPicPr/>
          <p:nvPr/>
        </p:nvPicPr>
        <p:blipFill>
          <a:blip r:embed="rId1"/>
          <a:stretch/>
        </p:blipFill>
        <p:spPr>
          <a:xfrm>
            <a:off x="-23760" y="554040"/>
            <a:ext cx="9191520" cy="1676520"/>
          </a:xfrm>
          <a:prstGeom prst="rect">
            <a:avLst/>
          </a:prstGeom>
          <a:ln w="0">
            <a:noFill/>
          </a:ln>
        </p:spPr>
      </p:pic>
      <p:pic>
        <p:nvPicPr>
          <p:cNvPr id="365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66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ovéPole 6"/>
          <p:cNvSpPr/>
          <p:nvPr/>
        </p:nvSpPr>
        <p:spPr>
          <a:xfrm>
            <a:off x="351360" y="2421000"/>
            <a:ext cx="85665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chť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jsou dvě trojice bodů, které neleží v přímce, a nech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´B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k existuje jediný bod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loroviny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´B´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kový, ž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´C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 shodné s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´C´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ovéPole 6"/>
          <p:cNvSpPr/>
          <p:nvPr/>
        </p:nvSpPr>
        <p:spPr>
          <a:xfrm>
            <a:off x="1334520" y="37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ovéPole 7"/>
          <p:cNvSpPr/>
          <p:nvPr/>
        </p:nvSpPr>
        <p:spPr>
          <a:xfrm>
            <a:off x="306252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ovéPole 8"/>
          <p:cNvSpPr/>
          <p:nvPr/>
        </p:nvSpPr>
        <p:spPr>
          <a:xfrm>
            <a:off x="1910880" y="537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ovéPole 9"/>
          <p:cNvSpPr/>
          <p:nvPr/>
        </p:nvSpPr>
        <p:spPr>
          <a:xfrm flipH="1">
            <a:off x="4932360" y="357336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ovéPole 11"/>
          <p:cNvSpPr/>
          <p:nvPr/>
        </p:nvSpPr>
        <p:spPr>
          <a:xfrm>
            <a:off x="644364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ovéPole 12"/>
          <p:cNvSpPr/>
          <p:nvPr/>
        </p:nvSpPr>
        <p:spPr>
          <a:xfrm>
            <a:off x="7020000" y="54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lipsa 13"/>
          <p:cNvSpPr/>
          <p:nvPr/>
        </p:nvSpPr>
        <p:spPr>
          <a:xfrm>
            <a:off x="1619280" y="393372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lipsa 14"/>
          <p:cNvSpPr/>
          <p:nvPr/>
        </p:nvSpPr>
        <p:spPr>
          <a:xfrm>
            <a:off x="3059280" y="414972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lipsa 15"/>
          <p:cNvSpPr/>
          <p:nvPr/>
        </p:nvSpPr>
        <p:spPr>
          <a:xfrm>
            <a:off x="2124000" y="5300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lipsa 16"/>
          <p:cNvSpPr/>
          <p:nvPr/>
        </p:nvSpPr>
        <p:spPr>
          <a:xfrm>
            <a:off x="5076720" y="393372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Elipsa 17"/>
          <p:cNvSpPr/>
          <p:nvPr/>
        </p:nvSpPr>
        <p:spPr>
          <a:xfrm>
            <a:off x="6443640" y="4221000"/>
            <a:ext cx="1443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lipsa 18"/>
          <p:cNvSpPr/>
          <p:nvPr/>
        </p:nvSpPr>
        <p:spPr>
          <a:xfrm>
            <a:off x="7020000" y="515772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římá spojovací čára 20"/>
          <p:cNvSpPr/>
          <p:nvPr/>
        </p:nvSpPr>
        <p:spPr>
          <a:xfrm>
            <a:off x="1692360" y="3933720"/>
            <a:ext cx="1366920" cy="2872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římá spojovací čára 22"/>
          <p:cNvSpPr/>
          <p:nvPr/>
        </p:nvSpPr>
        <p:spPr>
          <a:xfrm>
            <a:off x="5148360" y="4005360"/>
            <a:ext cx="1368360" cy="2872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ovéPole 23"/>
          <p:cNvSpPr/>
          <p:nvPr/>
        </p:nvSpPr>
        <p:spPr>
          <a:xfrm>
            <a:off x="5295240" y="5373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lipsa 24"/>
          <p:cNvSpPr/>
          <p:nvPr/>
        </p:nvSpPr>
        <p:spPr>
          <a:xfrm>
            <a:off x="5580000" y="530064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římá spojovací čára 26"/>
          <p:cNvSpPr/>
          <p:nvPr/>
        </p:nvSpPr>
        <p:spPr>
          <a:xfrm>
            <a:off x="1619280" y="3933720"/>
            <a:ext cx="606240" cy="14684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římá spojovací čára 27"/>
          <p:cNvSpPr/>
          <p:nvPr/>
        </p:nvSpPr>
        <p:spPr>
          <a:xfrm>
            <a:off x="5148360" y="4076640"/>
            <a:ext cx="452520" cy="131760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římá spojovací čára 29"/>
          <p:cNvSpPr/>
          <p:nvPr/>
        </p:nvSpPr>
        <p:spPr>
          <a:xfrm flipH="1">
            <a:off x="2195280" y="4292640"/>
            <a:ext cx="936360" cy="108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římá spojovací čára 30"/>
          <p:cNvSpPr/>
          <p:nvPr/>
        </p:nvSpPr>
        <p:spPr>
          <a:xfrm flipH="1">
            <a:off x="5651280" y="4292640"/>
            <a:ext cx="865080" cy="108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3:48:24Z</dcterms:created>
  <dc:creator>Chytrý</dc:creator>
  <dc:description/>
  <dc:language>en-US</dc:language>
  <cp:lastModifiedBy>chytryv</cp:lastModifiedBy>
  <dcterms:modified xsi:type="dcterms:W3CDTF">2014-11-03T11:28:32Z</dcterms:modified>
  <cp:revision>156</cp:revision>
  <dc:subject/>
  <dc:title>Snímek 1</dc:title>
</cp:coreProperties>
</file>