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1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46C-A658-4246-B3F3-C252E9C5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51F-4323-4DDC-8058-ACC113D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15C-4CB6-47AD-8378-5F19C266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7B6-D7CE-477F-AF58-86E980F2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DB9F-C32F-414D-B225-B01C18C3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8BD9-6DAF-426C-A420-9E63897E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33A3-B0DE-4014-A676-38BE864C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0CF-CA3B-42C2-BE31-281FAAFB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B2F8-4914-4A81-B7A1-1D274F5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454C-B25A-4558-8736-32EABC79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CCDD-5BA7-4D1A-A3DF-A4D4AA8B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2BD-DA80-46A3-A328-2485BC4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C19-0DA6-49C0-B0A0-E13781C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D04C-25AB-46EB-8696-8CC0D90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38EC-0B1B-46A4-878B-689BC94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D8F-E073-4E37-87EF-7498C3A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1F26-50B5-4EC3-85F3-A1391731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A034-6736-411A-AAB8-3AD2222A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F3BF-B087-4E82-A08C-BAA6A16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7B47-648C-4F6B-ABD4-F5C1AAF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B40F-F3A5-46B5-BE1D-65E1AB9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1A91-85E6-456D-9186-F4A3C1A7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112-DCC4-4B47-9B82-2A27416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780F-73BE-4CA3-B0FE-4094C7C9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738A-1642-4C80-B55B-BEE8B339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E930-9DAF-4195-9A0C-AC31227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E51D-56CC-4674-801F-F4CCD95F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2439-A4D9-4FC4-A4B1-CDA86626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D9E2-F214-419E-97B9-62CB3D5F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1C9A-5FD5-4BDF-8E0F-ACC468F5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5307-2E9D-42A9-842D-A8A6C297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1C5F-2475-4C6C-AF5E-CFD6445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9D25-E826-4AB9-AED0-A788C1F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F49-D3FD-4430-B612-8B8EC99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D5FA-BFC1-4D47-9E93-CD0185DF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1228-4CA6-48C7-8ACD-6DA10BCD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21F8-9B0E-4DCA-818B-CE9A013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25A5-032A-4487-BC5A-D74DA19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7A02-B44E-4BA3-8C7D-0AA5824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CCAD-FB95-4D5E-A1B8-202137E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3777-2A18-4EAC-B485-A2971CA9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794B-EFC1-461E-915C-F81CB87F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FF40-41D0-4D3A-A5C2-FAC26B14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09219-0F4C-4EBA-BCC5-CA50CFFF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D11-9AB2-4FF1-8349-286D7EB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4B65-AA40-4FFB-818F-05815CB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4F81-C33F-49EB-9B05-B5336B8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9E23-CDC7-4AC0-8D9F-08B8525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2391-900F-4166-9E49-15E84045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8A49-0FAD-4295-B879-F3E8818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7B94D-0ED7-47E9-9CE2-17F0B43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4A9E-4D27-4F40-96A5-B2BFDFB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0BFDA-14EF-4D18-8608-C134C3D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5B54-53F8-4CE8-BEDF-F08D61B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11C7-6536-42AC-B80C-9FF0FFE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1C1-136B-417D-A8CE-AF06937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4FD0-DF94-4F75-9204-4137127B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5EB-7DDE-4334-A600-9A0CC04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701-BD8A-4C9D-9EAD-96870B0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735-61A5-47D1-9514-AD04AC4B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028-1B60-45B0-92AF-AB5F40D7CE6B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D219-30BA-485D-9C18-A706308B67F5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676-DCFA-499F-8FC5-A69F16FC47A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4245-8081-42C1-8B44-2E6EBB81434C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B45-A754-4A24-AA80-84EBD98258D5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151080" y="4762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927360" y="378936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cké útvary jako množiny bod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98080" y="61657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Zaoblený obdélník 3" descr=""/>
          <p:cNvPicPr/>
          <p:nvPr/>
        </p:nvPicPr>
        <p:blipFill>
          <a:blip r:embed="rId1"/>
          <a:stretch/>
        </p:blipFill>
        <p:spPr>
          <a:xfrm>
            <a:off x="-23760" y="500040"/>
            <a:ext cx="9191520" cy="1749600"/>
          </a:xfrm>
          <a:prstGeom prst="rect">
            <a:avLst/>
          </a:prstGeom>
          <a:ln w="0">
            <a:noFill/>
          </a:ln>
        </p:spPr>
      </p:pic>
      <p:pic>
        <p:nvPicPr>
          <p:cNvPr id="33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3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6"/>
          <p:cNvSpPr/>
          <p:nvPr/>
        </p:nvSpPr>
        <p:spPr>
          <a:xfrm>
            <a:off x="-948240" y="4005360"/>
            <a:ext cx="10607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Defin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Zvolme na přímce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 bod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, tento bod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 rozdělí body přímky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 do dvou podmnožin, které značí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a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a musí plati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a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jsou disjunktní (mají prázdný průn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Mezi body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X, Y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 podmnožiny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respektive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neleží bod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Mezi body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X 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є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a </a:t>
            </a:r>
            <a:r>
              <a:rPr b="0" i="1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 є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(P) leží bod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aoblený obdélník 7"/>
          <p:cNvSpPr/>
          <p:nvPr/>
        </p:nvSpPr>
        <p:spPr>
          <a:xfrm>
            <a:off x="5580000" y="4653000"/>
            <a:ext cx="2303640" cy="504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aoblený obdélník 8"/>
          <p:cNvSpPr/>
          <p:nvPr/>
        </p:nvSpPr>
        <p:spPr>
          <a:xfrm>
            <a:off x="5580000" y="5445000"/>
            <a:ext cx="2303640" cy="505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á polopří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římá spojovací čára 11"/>
          <p:cNvSpPr/>
          <p:nvPr/>
        </p:nvSpPr>
        <p:spPr>
          <a:xfrm>
            <a:off x="755640" y="299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lipsa 12"/>
          <p:cNvSpPr/>
          <p:nvPr/>
        </p:nvSpPr>
        <p:spPr>
          <a:xfrm>
            <a:off x="4140360" y="29242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ovéPole 13"/>
          <p:cNvSpPr/>
          <p:nvPr/>
        </p:nvSpPr>
        <p:spPr>
          <a:xfrm>
            <a:off x="4070520" y="31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Šipka doleva 14"/>
          <p:cNvSpPr/>
          <p:nvPr/>
        </p:nvSpPr>
        <p:spPr>
          <a:xfrm>
            <a:off x="1187280" y="2421000"/>
            <a:ext cx="2808360" cy="21600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Šipka doprava 15"/>
          <p:cNvSpPr/>
          <p:nvPr/>
        </p:nvSpPr>
        <p:spPr>
          <a:xfrm>
            <a:off x="4427640" y="2421000"/>
            <a:ext cx="2952720" cy="2160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ovéPole 16"/>
          <p:cNvSpPr/>
          <p:nvPr/>
        </p:nvSpPr>
        <p:spPr>
          <a:xfrm>
            <a:off x="1845000" y="206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opřímk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ovéPole 17"/>
          <p:cNvSpPr/>
          <p:nvPr/>
        </p:nvSpPr>
        <p:spPr>
          <a:xfrm>
            <a:off x="5157360" y="206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opřímk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ovéPole 18"/>
          <p:cNvSpPr/>
          <p:nvPr/>
        </p:nvSpPr>
        <p:spPr>
          <a:xfrm>
            <a:off x="2206080" y="2565360"/>
            <a:ext cx="71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ovéPole 19"/>
          <p:cNvSpPr/>
          <p:nvPr/>
        </p:nvSpPr>
        <p:spPr>
          <a:xfrm>
            <a:off x="5446080" y="2565360"/>
            <a:ext cx="711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ovéPole 20"/>
          <p:cNvSpPr/>
          <p:nvPr/>
        </p:nvSpPr>
        <p:spPr>
          <a:xfrm>
            <a:off x="8604360" y="4724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Přímá spojovací šipka 22"/>
          <p:cNvCxnSpPr/>
          <p:nvPr/>
        </p:nvCxnSpPr>
        <p:spPr>
          <a:xfrm>
            <a:off x="8027640" y="49413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9" name="Přímá spojovací šipka 29"/>
          <p:cNvCxnSpPr/>
          <p:nvPr/>
        </p:nvCxnSpPr>
        <p:spPr>
          <a:xfrm flipH="1">
            <a:off x="8027640" y="573228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TextovéPole 30"/>
          <p:cNvSpPr/>
          <p:nvPr/>
        </p:nvSpPr>
        <p:spPr>
          <a:xfrm>
            <a:off x="8604360" y="55166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aoblený obdélník 3" descr=""/>
          <p:cNvPicPr/>
          <p:nvPr/>
        </p:nvPicPr>
        <p:blipFill>
          <a:blip r:embed="rId1"/>
          <a:stretch/>
        </p:blipFill>
        <p:spPr>
          <a:xfrm>
            <a:off x="-23760" y="500040"/>
            <a:ext cx="9191520" cy="1749600"/>
          </a:xfrm>
          <a:prstGeom prst="rect">
            <a:avLst/>
          </a:prstGeom>
          <a:ln w="0">
            <a:noFill/>
          </a:ln>
        </p:spPr>
      </p:pic>
      <p:pic>
        <p:nvPicPr>
          <p:cNvPr id="35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5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8097840" cy="1800000"/>
          </a:xfrm>
          <a:prstGeom prst="rect">
            <a:avLst/>
          </a:prstGeom>
          <a:ln w="0">
            <a:noFill/>
          </a:ln>
        </p:spPr>
      </p:pic>
      <p:sp>
        <p:nvSpPr>
          <p:cNvPr id="356" name="TextovéPole 6"/>
          <p:cNvSpPr/>
          <p:nvPr/>
        </p:nvSpPr>
        <p:spPr>
          <a:xfrm>
            <a:off x="251280" y="4076640"/>
            <a:ext cx="651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římce zvolme dva různé body A ≠ B. Průnik polopřím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a → BA se nazývá úsečka AB. Body AB jsou krajní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této úseč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aoblený obdélník 7"/>
          <p:cNvSpPr/>
          <p:nvPr/>
        </p:nvSpPr>
        <p:spPr>
          <a:xfrm>
            <a:off x="3203640" y="5445000"/>
            <a:ext cx="2303280" cy="505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8"/>
          <p:cNvSpPr/>
          <p:nvPr/>
        </p:nvSpPr>
        <p:spPr>
          <a:xfrm>
            <a:off x="6087960" y="5516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9" descr=""/>
          <p:cNvPicPr/>
          <p:nvPr/>
        </p:nvPicPr>
        <p:blipFill>
          <a:blip r:embed="rId4"/>
          <a:stretch/>
        </p:blipFill>
        <p:spPr>
          <a:xfrm>
            <a:off x="6732720" y="5516640"/>
            <a:ext cx="1022040" cy="36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6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6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ovéPole 5"/>
          <p:cNvSpPr/>
          <p:nvPr/>
        </p:nvSpPr>
        <p:spPr>
          <a:xfrm>
            <a:off x="410760" y="2421000"/>
            <a:ext cx="786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éto doby jsme mluvili o jednorozměrném prostoru. Zodpovězte si s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sledující otáz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č jej značíme E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ý axiom se vztahuje k přímká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aoblený obdélník 7"/>
          <p:cNvSpPr/>
          <p:nvPr/>
        </p:nvSpPr>
        <p:spPr>
          <a:xfrm>
            <a:off x="2843280" y="3860640"/>
            <a:ext cx="374472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zakladatele a jeho axio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Zaoblený obdélník 8"/>
          <p:cNvSpPr/>
          <p:nvPr/>
        </p:nvSpPr>
        <p:spPr>
          <a:xfrm>
            <a:off x="2771640" y="5157720"/>
            <a:ext cx="3745080" cy="574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ždými dvěma body je určená jediná přím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http://t3.gstatic.com/images?q=tbn:ANd9GcQ0PfoeEv7OL-HTPSUq9zxHzFjRJgtXsViDV4xE7eSQw3Qvl8s_"/>
          <p:cNvPicPr/>
          <p:nvPr/>
        </p:nvPicPr>
        <p:blipFill>
          <a:blip r:embed="rId3"/>
          <a:stretch/>
        </p:blipFill>
        <p:spPr>
          <a:xfrm>
            <a:off x="7093080" y="3429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6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7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ovéPole 6"/>
          <p:cNvSpPr/>
          <p:nvPr/>
        </p:nvSpPr>
        <p:spPr>
          <a:xfrm>
            <a:off x="270720" y="220500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u si lze snadno představit jako desku stolu, kterou nelze ohraničit, jelikož m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mezený rozměr. Stejně tak ji lze demonstrovat jako tabuli, stěnu, podlahu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o pojem není dětem vzdálený a opět je </a:t>
            </a:r>
            <a:r>
              <a:rPr b="1" lang="cs-CZ" sz="20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nedefinovatelný (základní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g_hi" descr="ANd9GcR6ZgqpknXBnrl19VlaERUEmSRIYOhTH3GrU17DGnJnpMS_uH9rjA"/>
          <p:cNvPicPr/>
          <p:nvPr/>
        </p:nvPicPr>
        <p:blipFill>
          <a:blip r:embed="rId3"/>
          <a:stretch/>
        </p:blipFill>
        <p:spPr>
          <a:xfrm>
            <a:off x="539640" y="3429000"/>
            <a:ext cx="2683080" cy="2376360"/>
          </a:xfrm>
          <a:prstGeom prst="rect">
            <a:avLst/>
          </a:prstGeom>
          <a:ln w="0">
            <a:noFill/>
          </a:ln>
        </p:spPr>
      </p:pic>
      <p:sp>
        <p:nvSpPr>
          <p:cNvPr id="374" name="Zaoblený obdélník 8"/>
          <p:cNvSpPr/>
          <p:nvPr/>
        </p:nvSpPr>
        <p:spPr>
          <a:xfrm>
            <a:off x="3924360" y="342900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aoblený obdélník 9"/>
          <p:cNvSpPr/>
          <p:nvPr/>
        </p:nvSpPr>
        <p:spPr>
          <a:xfrm>
            <a:off x="6372360" y="486900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ájemné polohy rov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aoblený obdélník 13"/>
          <p:cNvSpPr/>
          <p:nvPr/>
        </p:nvSpPr>
        <p:spPr>
          <a:xfrm>
            <a:off x="3924360" y="4869000"/>
            <a:ext cx="2232000" cy="649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m je urč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ovéPole 12"/>
          <p:cNvSpPr/>
          <p:nvPr/>
        </p:nvSpPr>
        <p:spPr>
          <a:xfrm>
            <a:off x="6446520" y="3500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3" descr=""/>
          <p:cNvPicPr/>
          <p:nvPr/>
        </p:nvPicPr>
        <p:blipFill>
          <a:blip r:embed="rId4"/>
          <a:stretch/>
        </p:blipFill>
        <p:spPr>
          <a:xfrm>
            <a:off x="7020000" y="3645000"/>
            <a:ext cx="1288800" cy="28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8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8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2484360" y="3068640"/>
            <a:ext cx="5969160" cy="1944720"/>
          </a:xfrm>
          <a:prstGeom prst="rect">
            <a:avLst/>
          </a:prstGeom>
          <a:ln w="0">
            <a:noFill/>
          </a:ln>
        </p:spPr>
      </p:pic>
      <p:sp>
        <p:nvSpPr>
          <p:cNvPr id="384" name="TextovéPole 6"/>
          <p:cNvSpPr/>
          <p:nvPr/>
        </p:nvSpPr>
        <p:spPr>
          <a:xfrm>
            <a:off x="700200" y="234936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sme se definici vytvořit na základě definice polopřímky a postupu, kter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již zmíně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aoblený obdélník 7"/>
          <p:cNvSpPr/>
          <p:nvPr/>
        </p:nvSpPr>
        <p:spPr>
          <a:xfrm>
            <a:off x="826920" y="5373720"/>
            <a:ext cx="223236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e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aoblený obdélník 8"/>
          <p:cNvSpPr/>
          <p:nvPr/>
        </p:nvSpPr>
        <p:spPr>
          <a:xfrm>
            <a:off x="3635280" y="537372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m je urče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Zaoblený obdélník 9"/>
          <p:cNvSpPr/>
          <p:nvPr/>
        </p:nvSpPr>
        <p:spPr>
          <a:xfrm>
            <a:off x="6443640" y="5373720"/>
            <a:ext cx="223200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 jiné geometr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1630440" cy="36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9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9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ovéPole 5"/>
          <p:cNvSpPr/>
          <p:nvPr/>
        </p:nvSpPr>
        <p:spPr>
          <a:xfrm>
            <a:off x="268200" y="2349360"/>
            <a:ext cx="843588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olme v rovině α přímk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to přímka rozdělí body v rovině α do d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množin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a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, kde plat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a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jsou disjunkt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i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množiny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respektive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neleží přímka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i body X є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a Z є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leží přímka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jednocení podmnožiny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s přímkou h j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orovin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 hraniční přímkou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aoblený obdélník 6"/>
          <p:cNvSpPr/>
          <p:nvPr/>
        </p:nvSpPr>
        <p:spPr>
          <a:xfrm>
            <a:off x="826920" y="4724280"/>
            <a:ext cx="3240360" cy="64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jsou možnosti zad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aoblený obdélník 7"/>
          <p:cNvSpPr/>
          <p:nvPr/>
        </p:nvSpPr>
        <p:spPr>
          <a:xfrm>
            <a:off x="4788000" y="4724280"/>
            <a:ext cx="3241440" cy="64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á polor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" descr=""/>
          <p:cNvPicPr/>
          <p:nvPr/>
        </p:nvPicPr>
        <p:blipFill>
          <a:blip r:embed="rId3"/>
          <a:stretch/>
        </p:blipFill>
        <p:spPr>
          <a:xfrm>
            <a:off x="5724360" y="5589720"/>
            <a:ext cx="1319400" cy="28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9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9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ovéPole 5"/>
          <p:cNvSpPr/>
          <p:nvPr/>
        </p:nvSpPr>
        <p:spPr>
          <a:xfrm>
            <a:off x="270720" y="2421000"/>
            <a:ext cx="848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, přímka a  rovina jsou označováni jako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áklad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imetrické pojmy a te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definovatel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šechny ostatní pojmy jsou nazvány </a:t>
            </a:r>
            <a:r>
              <a:rPr b="0" lang="cs-CZ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dvoze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imetr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my a tedy </a:t>
            </a:r>
            <a:r>
              <a:rPr b="0" lang="cs-CZ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finovateln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ovéPole 6"/>
          <p:cNvSpPr/>
          <p:nvPr/>
        </p:nvSpPr>
        <p:spPr>
          <a:xfrm>
            <a:off x="264960" y="3716280"/>
            <a:ext cx="70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pojmy dokážeme odvodit pomocí pojmů roviny a polorov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ovéPole 7"/>
          <p:cNvSpPr/>
          <p:nvPr/>
        </p:nvSpPr>
        <p:spPr>
          <a:xfrm>
            <a:off x="334080" y="45813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ovéPole 8"/>
          <p:cNvSpPr/>
          <p:nvPr/>
        </p:nvSpPr>
        <p:spPr>
          <a:xfrm>
            <a:off x="328320" y="5229360"/>
            <a:ext cx="15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úhe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ovéPole 9"/>
          <p:cNvSpPr/>
          <p:nvPr/>
        </p:nvSpPr>
        <p:spPr>
          <a:xfrm>
            <a:off x="3359520" y="4581360"/>
            <a:ext cx="18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hoúhe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ovéPole 13"/>
          <p:cNvSpPr/>
          <p:nvPr/>
        </p:nvSpPr>
        <p:spPr>
          <a:xfrm>
            <a:off x="3359520" y="5229360"/>
            <a:ext cx="16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ný p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http://t3.gstatic.com/images?q=tbn:ANd9GcQ0PfoeEv7OL-HTPSUq9zxHzFjRJgtXsViDV4xE7eSQw3Qvl8s_"/>
          <p:cNvPicPr/>
          <p:nvPr/>
        </p:nvPicPr>
        <p:blipFill>
          <a:blip r:embed="rId3"/>
          <a:stretch/>
        </p:blipFill>
        <p:spPr>
          <a:xfrm>
            <a:off x="7236000" y="3621240"/>
            <a:ext cx="1704960" cy="227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0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1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ovéPole 5"/>
          <p:cNvSpPr/>
          <p:nvPr/>
        </p:nvSpPr>
        <p:spPr>
          <a:xfrm>
            <a:off x="387720" y="2276640"/>
            <a:ext cx="873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ž víme, jak tvořit základní definice z pojmů, které již známe. Pokuste se tedy s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it definic úhlu na základě obráz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lipsa 7"/>
          <p:cNvSpPr/>
          <p:nvPr/>
        </p:nvSpPr>
        <p:spPr>
          <a:xfrm>
            <a:off x="1258920" y="450864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lipsa 9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lipsa 11"/>
          <p:cNvSpPr/>
          <p:nvPr/>
        </p:nvSpPr>
        <p:spPr>
          <a:xfrm>
            <a:off x="2916360" y="5300640"/>
            <a:ext cx="1429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ovéPole 12"/>
          <p:cNvSpPr/>
          <p:nvPr/>
        </p:nvSpPr>
        <p:spPr>
          <a:xfrm>
            <a:off x="299016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ovéPole 13"/>
          <p:cNvSpPr/>
          <p:nvPr/>
        </p:nvSpPr>
        <p:spPr>
          <a:xfrm>
            <a:off x="299016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ovéPole 14"/>
          <p:cNvSpPr/>
          <p:nvPr/>
        </p:nvSpPr>
        <p:spPr>
          <a:xfrm>
            <a:off x="974160" y="43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ovéPole 15"/>
          <p:cNvSpPr/>
          <p:nvPr/>
        </p:nvSpPr>
        <p:spPr>
          <a:xfrm>
            <a:off x="5870520" y="3357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3"/>
          <a:stretch/>
        </p:blipFill>
        <p:spPr>
          <a:xfrm>
            <a:off x="6443640" y="3357720"/>
            <a:ext cx="1276200" cy="358560"/>
          </a:xfrm>
          <a:prstGeom prst="rect">
            <a:avLst/>
          </a:prstGeom>
          <a:ln w="0">
            <a:noFill/>
          </a:ln>
        </p:spPr>
      </p:pic>
      <p:sp>
        <p:nvSpPr>
          <p:cNvPr id="421" name="TextovéPole 16"/>
          <p:cNvSpPr/>
          <p:nvPr/>
        </p:nvSpPr>
        <p:spPr>
          <a:xfrm>
            <a:off x="5870520" y="40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"/>
          <p:cNvPicPr/>
          <p:nvPr/>
        </p:nvPicPr>
        <p:blipFill>
          <a:blip r:embed="rId4"/>
          <a:stretch/>
        </p:blipFill>
        <p:spPr>
          <a:xfrm>
            <a:off x="6443640" y="4076640"/>
            <a:ext cx="1297080" cy="289080"/>
          </a:xfrm>
          <a:prstGeom prst="rect">
            <a:avLst/>
          </a:prstGeom>
          <a:ln w="0">
            <a:noFill/>
          </a:ln>
        </p:spPr>
      </p:pic>
      <p:sp>
        <p:nvSpPr>
          <p:cNvPr id="423" name="TextovéPole 18"/>
          <p:cNvSpPr/>
          <p:nvPr/>
        </p:nvSpPr>
        <p:spPr>
          <a:xfrm>
            <a:off x="5880600" y="472428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 Průnik polor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20"/>
          <p:cNvSpPr/>
          <p:nvPr/>
        </p:nvSpPr>
        <p:spPr>
          <a:xfrm flipV="1">
            <a:off x="324000" y="3284640"/>
            <a:ext cx="3816360" cy="1800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22"/>
          <p:cNvSpPr/>
          <p:nvPr/>
        </p:nvSpPr>
        <p:spPr>
          <a:xfrm>
            <a:off x="755640" y="5229360"/>
            <a:ext cx="647640" cy="720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23"/>
          <p:cNvSpPr/>
          <p:nvPr/>
        </p:nvSpPr>
        <p:spPr>
          <a:xfrm>
            <a:off x="1116000" y="5084640"/>
            <a:ext cx="934920" cy="1008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25"/>
          <p:cNvSpPr/>
          <p:nvPr/>
        </p:nvSpPr>
        <p:spPr>
          <a:xfrm>
            <a:off x="1403280" y="4869000"/>
            <a:ext cx="1081080" cy="1152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římá spojovací čára 27"/>
          <p:cNvSpPr/>
          <p:nvPr/>
        </p:nvSpPr>
        <p:spPr>
          <a:xfrm>
            <a:off x="1835280" y="4653000"/>
            <a:ext cx="1081080" cy="1152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římá spojovací čára 28"/>
          <p:cNvSpPr/>
          <p:nvPr/>
        </p:nvSpPr>
        <p:spPr>
          <a:xfrm>
            <a:off x="2195640" y="4437000"/>
            <a:ext cx="1081080" cy="1152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římá spojovací čára 29"/>
          <p:cNvSpPr/>
          <p:nvPr/>
        </p:nvSpPr>
        <p:spPr>
          <a:xfrm>
            <a:off x="2556000" y="4221000"/>
            <a:ext cx="1079280" cy="1152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římá spojovací čára 30"/>
          <p:cNvSpPr/>
          <p:nvPr/>
        </p:nvSpPr>
        <p:spPr>
          <a:xfrm>
            <a:off x="2987640" y="4076640"/>
            <a:ext cx="1079640" cy="1152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římá spojovací čára 31"/>
          <p:cNvSpPr/>
          <p:nvPr/>
        </p:nvSpPr>
        <p:spPr>
          <a:xfrm>
            <a:off x="3348000" y="3933720"/>
            <a:ext cx="1079640" cy="1150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římá spojovací čára 32"/>
          <p:cNvSpPr/>
          <p:nvPr/>
        </p:nvSpPr>
        <p:spPr>
          <a:xfrm>
            <a:off x="3635280" y="3716280"/>
            <a:ext cx="1081080" cy="11527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římá spojovací čára 33"/>
          <p:cNvSpPr/>
          <p:nvPr/>
        </p:nvSpPr>
        <p:spPr>
          <a:xfrm>
            <a:off x="3995640" y="3573360"/>
            <a:ext cx="1081080" cy="115092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římá spojovací čára 35"/>
          <p:cNvSpPr/>
          <p:nvPr/>
        </p:nvSpPr>
        <p:spPr>
          <a:xfrm>
            <a:off x="250920" y="4005360"/>
            <a:ext cx="4321080" cy="20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římá spojovací čára 38"/>
          <p:cNvSpPr/>
          <p:nvPr/>
        </p:nvSpPr>
        <p:spPr>
          <a:xfrm flipV="1">
            <a:off x="611280" y="3141720"/>
            <a:ext cx="288720" cy="7920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římá spojovací čára 39"/>
          <p:cNvSpPr/>
          <p:nvPr/>
        </p:nvSpPr>
        <p:spPr>
          <a:xfrm flipV="1">
            <a:off x="826920" y="3141360"/>
            <a:ext cx="360360" cy="93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římá spojovací čára 43"/>
          <p:cNvSpPr/>
          <p:nvPr/>
        </p:nvSpPr>
        <p:spPr>
          <a:xfrm flipV="1">
            <a:off x="1116000" y="3213000"/>
            <a:ext cx="360360" cy="936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římá spojovací čára 44"/>
          <p:cNvSpPr/>
          <p:nvPr/>
        </p:nvSpPr>
        <p:spPr>
          <a:xfrm flipV="1">
            <a:off x="1403280" y="3213000"/>
            <a:ext cx="432000" cy="1152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římá spojovací čára 46"/>
          <p:cNvSpPr/>
          <p:nvPr/>
        </p:nvSpPr>
        <p:spPr>
          <a:xfrm flipV="1">
            <a:off x="1763640" y="3212640"/>
            <a:ext cx="504720" cy="1295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římá spojovací čára 48"/>
          <p:cNvSpPr/>
          <p:nvPr/>
        </p:nvSpPr>
        <p:spPr>
          <a:xfrm flipV="1">
            <a:off x="2124000" y="3284280"/>
            <a:ext cx="503280" cy="1439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50"/>
          <p:cNvSpPr/>
          <p:nvPr/>
        </p:nvSpPr>
        <p:spPr>
          <a:xfrm flipV="1">
            <a:off x="2556000" y="3284280"/>
            <a:ext cx="576000" cy="1584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52"/>
          <p:cNvSpPr/>
          <p:nvPr/>
        </p:nvSpPr>
        <p:spPr>
          <a:xfrm flipV="1">
            <a:off x="2916360" y="3284640"/>
            <a:ext cx="647640" cy="1728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54"/>
          <p:cNvSpPr/>
          <p:nvPr/>
        </p:nvSpPr>
        <p:spPr>
          <a:xfrm flipV="1">
            <a:off x="3276720" y="3284280"/>
            <a:ext cx="718920" cy="1873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56"/>
          <p:cNvSpPr/>
          <p:nvPr/>
        </p:nvSpPr>
        <p:spPr>
          <a:xfrm flipV="1">
            <a:off x="3635280" y="3212640"/>
            <a:ext cx="792360" cy="20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58"/>
          <p:cNvSpPr/>
          <p:nvPr/>
        </p:nvSpPr>
        <p:spPr>
          <a:xfrm flipV="1">
            <a:off x="4067280" y="3141360"/>
            <a:ext cx="865080" cy="237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60"/>
          <p:cNvSpPr/>
          <p:nvPr/>
        </p:nvSpPr>
        <p:spPr>
          <a:xfrm flipV="1">
            <a:off x="4427640" y="3068280"/>
            <a:ext cx="936360" cy="2592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Volný tvar 62"/>
          <p:cNvSpPr/>
          <p:nvPr/>
        </p:nvSpPr>
        <p:spPr>
          <a:xfrm>
            <a:off x="2251080" y="3195720"/>
            <a:ext cx="2995560" cy="2727360"/>
          </a:xfrm>
          <a:custGeom>
            <a:avLst/>
            <a:gdLst/>
            <a:ahLst/>
            <a:rect l="l" t="t" r="r" b="b"/>
            <a:pathLst>
              <a:path w="2996338" h="2726349">
                <a:moveTo>
                  <a:pt x="0" y="1544663"/>
                </a:moveTo>
                <a:cubicBezTo>
                  <a:pt x="4689" y="1488392"/>
                  <a:pt x="2993" y="1431220"/>
                  <a:pt x="14067" y="1375851"/>
                </a:cubicBezTo>
                <a:cubicBezTo>
                  <a:pt x="17383" y="1359272"/>
                  <a:pt x="37345" y="1349842"/>
                  <a:pt x="42203" y="1333648"/>
                </a:cubicBezTo>
                <a:cubicBezTo>
                  <a:pt x="51731" y="1301889"/>
                  <a:pt x="44368" y="1266122"/>
                  <a:pt x="56271" y="1235174"/>
                </a:cubicBezTo>
                <a:cubicBezTo>
                  <a:pt x="73917" y="1189295"/>
                  <a:pt x="108407" y="1143227"/>
                  <a:pt x="154744" y="1122633"/>
                </a:cubicBezTo>
                <a:cubicBezTo>
                  <a:pt x="181845" y="1110588"/>
                  <a:pt x="239151" y="1094497"/>
                  <a:pt x="239151" y="1094497"/>
                </a:cubicBezTo>
                <a:cubicBezTo>
                  <a:pt x="262597" y="1099186"/>
                  <a:pt x="289594" y="1095302"/>
                  <a:pt x="309489" y="1108565"/>
                </a:cubicBezTo>
                <a:cubicBezTo>
                  <a:pt x="321827" y="1116790"/>
                  <a:pt x="323557" y="1135939"/>
                  <a:pt x="323557" y="1150768"/>
                </a:cubicBezTo>
                <a:cubicBezTo>
                  <a:pt x="323557" y="1174678"/>
                  <a:pt x="318908" y="1199129"/>
                  <a:pt x="309489" y="1221106"/>
                </a:cubicBezTo>
                <a:cubicBezTo>
                  <a:pt x="301470" y="1239817"/>
                  <a:pt x="251507" y="1269139"/>
                  <a:pt x="239151" y="1277377"/>
                </a:cubicBezTo>
                <a:cubicBezTo>
                  <a:pt x="234462" y="1291445"/>
                  <a:pt x="231715" y="1306317"/>
                  <a:pt x="225083" y="1319580"/>
                </a:cubicBezTo>
                <a:cubicBezTo>
                  <a:pt x="217522" y="1334702"/>
                  <a:pt x="203814" y="1346333"/>
                  <a:pt x="196947" y="1361783"/>
                </a:cubicBezTo>
                <a:cubicBezTo>
                  <a:pt x="184902" y="1388884"/>
                  <a:pt x="168812" y="1446189"/>
                  <a:pt x="168812" y="1446189"/>
                </a:cubicBezTo>
                <a:cubicBezTo>
                  <a:pt x="173501" y="1479014"/>
                  <a:pt x="169159" y="1514477"/>
                  <a:pt x="182880" y="1544663"/>
                </a:cubicBezTo>
                <a:cubicBezTo>
                  <a:pt x="214329" y="1613850"/>
                  <a:pt x="233723" y="1591187"/>
                  <a:pt x="281354" y="1615002"/>
                </a:cubicBezTo>
                <a:cubicBezTo>
                  <a:pt x="296476" y="1622563"/>
                  <a:pt x="309489" y="1633759"/>
                  <a:pt x="323557" y="1643137"/>
                </a:cubicBezTo>
                <a:cubicBezTo>
                  <a:pt x="441247" y="1631368"/>
                  <a:pt x="452376" y="1666852"/>
                  <a:pt x="492369" y="1586866"/>
                </a:cubicBezTo>
                <a:cubicBezTo>
                  <a:pt x="499001" y="1573603"/>
                  <a:pt x="501748" y="1558731"/>
                  <a:pt x="506437" y="1544663"/>
                </a:cubicBezTo>
                <a:cubicBezTo>
                  <a:pt x="511126" y="1385229"/>
                  <a:pt x="502393" y="1224833"/>
                  <a:pt x="520504" y="1066362"/>
                </a:cubicBezTo>
                <a:cubicBezTo>
                  <a:pt x="522188" y="1051629"/>
                  <a:pt x="549991" y="1059923"/>
                  <a:pt x="562707" y="1052294"/>
                </a:cubicBezTo>
                <a:cubicBezTo>
                  <a:pt x="659260" y="994363"/>
                  <a:pt x="513492" y="1049943"/>
                  <a:pt x="633046" y="1010091"/>
                </a:cubicBezTo>
                <a:cubicBezTo>
                  <a:pt x="651803" y="1014780"/>
                  <a:pt x="685957" y="1005119"/>
                  <a:pt x="689317" y="1024159"/>
                </a:cubicBezTo>
                <a:cubicBezTo>
                  <a:pt x="702381" y="1098189"/>
                  <a:pt x="685406" y="1174757"/>
                  <a:pt x="675249" y="1249242"/>
                </a:cubicBezTo>
                <a:cubicBezTo>
                  <a:pt x="671242" y="1278627"/>
                  <a:pt x="656492" y="1305513"/>
                  <a:pt x="647114" y="1333648"/>
                </a:cubicBezTo>
                <a:cubicBezTo>
                  <a:pt x="626930" y="1394199"/>
                  <a:pt x="636644" y="1361458"/>
                  <a:pt x="618978" y="1432122"/>
                </a:cubicBezTo>
                <a:cubicBezTo>
                  <a:pt x="623667" y="1539974"/>
                  <a:pt x="615990" y="1649081"/>
                  <a:pt x="633046" y="1755679"/>
                </a:cubicBezTo>
                <a:cubicBezTo>
                  <a:pt x="635717" y="1772374"/>
                  <a:pt x="659360" y="1778036"/>
                  <a:pt x="675249" y="1783814"/>
                </a:cubicBezTo>
                <a:cubicBezTo>
                  <a:pt x="711589" y="1797029"/>
                  <a:pt x="787791" y="1811949"/>
                  <a:pt x="787791" y="1811949"/>
                </a:cubicBezTo>
                <a:cubicBezTo>
                  <a:pt x="820615" y="1807260"/>
                  <a:pt x="854808" y="1808367"/>
                  <a:pt x="886264" y="1797882"/>
                </a:cubicBezTo>
                <a:cubicBezTo>
                  <a:pt x="898847" y="1793688"/>
                  <a:pt x="907043" y="1780782"/>
                  <a:pt x="914400" y="1769746"/>
                </a:cubicBezTo>
                <a:cubicBezTo>
                  <a:pt x="937577" y="1734981"/>
                  <a:pt x="944099" y="1708785"/>
                  <a:pt x="956603" y="1671273"/>
                </a:cubicBezTo>
                <a:cubicBezTo>
                  <a:pt x="961292" y="1436811"/>
                  <a:pt x="961828" y="1202230"/>
                  <a:pt x="970671" y="967888"/>
                </a:cubicBezTo>
                <a:cubicBezTo>
                  <a:pt x="971230" y="953070"/>
                  <a:pt x="978106" y="938948"/>
                  <a:pt x="984738" y="925685"/>
                </a:cubicBezTo>
                <a:cubicBezTo>
                  <a:pt x="992299" y="910563"/>
                  <a:pt x="1003495" y="897550"/>
                  <a:pt x="1012874" y="883482"/>
                </a:cubicBezTo>
                <a:cubicBezTo>
                  <a:pt x="1017563" y="869414"/>
                  <a:pt x="1023345" y="855665"/>
                  <a:pt x="1026941" y="841279"/>
                </a:cubicBezTo>
                <a:cubicBezTo>
                  <a:pt x="1032740" y="818082"/>
                  <a:pt x="1029146" y="791700"/>
                  <a:pt x="1041009" y="770940"/>
                </a:cubicBezTo>
                <a:cubicBezTo>
                  <a:pt x="1049397" y="756260"/>
                  <a:pt x="1070010" y="753367"/>
                  <a:pt x="1083212" y="742805"/>
                </a:cubicBezTo>
                <a:cubicBezTo>
                  <a:pt x="1138385" y="698666"/>
                  <a:pt x="1080258" y="725031"/>
                  <a:pt x="1153551" y="700602"/>
                </a:cubicBezTo>
                <a:cubicBezTo>
                  <a:pt x="1186375" y="709980"/>
                  <a:pt x="1226333" y="706257"/>
                  <a:pt x="1252024" y="728737"/>
                </a:cubicBezTo>
                <a:cubicBezTo>
                  <a:pt x="1270019" y="744482"/>
                  <a:pt x="1260293" y="775879"/>
                  <a:pt x="1266092" y="799076"/>
                </a:cubicBezTo>
                <a:cubicBezTo>
                  <a:pt x="1269689" y="813462"/>
                  <a:pt x="1275471" y="827211"/>
                  <a:pt x="1280160" y="841279"/>
                </a:cubicBezTo>
                <a:cubicBezTo>
                  <a:pt x="1275471" y="930374"/>
                  <a:pt x="1273501" y="1019655"/>
                  <a:pt x="1266092" y="1108565"/>
                </a:cubicBezTo>
                <a:cubicBezTo>
                  <a:pt x="1261045" y="1169123"/>
                  <a:pt x="1252186" y="1171302"/>
                  <a:pt x="1237957" y="1221106"/>
                </a:cubicBezTo>
                <a:cubicBezTo>
                  <a:pt x="1202637" y="1344729"/>
                  <a:pt x="1243544" y="1218412"/>
                  <a:pt x="1209821" y="1319580"/>
                </a:cubicBezTo>
                <a:cubicBezTo>
                  <a:pt x="1205132" y="1352405"/>
                  <a:pt x="1201685" y="1385431"/>
                  <a:pt x="1195754" y="1418054"/>
                </a:cubicBezTo>
                <a:cubicBezTo>
                  <a:pt x="1192295" y="1437076"/>
                  <a:pt x="1184420" y="1455185"/>
                  <a:pt x="1181686" y="1474325"/>
                </a:cubicBezTo>
                <a:cubicBezTo>
                  <a:pt x="1140564" y="1762172"/>
                  <a:pt x="1189379" y="1506193"/>
                  <a:pt x="1153551" y="1685340"/>
                </a:cubicBezTo>
                <a:cubicBezTo>
                  <a:pt x="1168853" y="2052616"/>
                  <a:pt x="1131997" y="1916101"/>
                  <a:pt x="1195754" y="2107371"/>
                </a:cubicBezTo>
                <a:cubicBezTo>
                  <a:pt x="1205022" y="2135175"/>
                  <a:pt x="1213163" y="2171942"/>
                  <a:pt x="1237957" y="2191777"/>
                </a:cubicBezTo>
                <a:cubicBezTo>
                  <a:pt x="1249536" y="2201040"/>
                  <a:pt x="1266092" y="2201156"/>
                  <a:pt x="1280160" y="2205845"/>
                </a:cubicBezTo>
                <a:cubicBezTo>
                  <a:pt x="1312985" y="2201156"/>
                  <a:pt x="1348977" y="2206606"/>
                  <a:pt x="1378634" y="2191777"/>
                </a:cubicBezTo>
                <a:cubicBezTo>
                  <a:pt x="1411478" y="2175355"/>
                  <a:pt x="1429976" y="2105831"/>
                  <a:pt x="1448972" y="2079236"/>
                </a:cubicBezTo>
                <a:cubicBezTo>
                  <a:pt x="1460536" y="2063047"/>
                  <a:pt x="1477107" y="2051101"/>
                  <a:pt x="1491175" y="2037033"/>
                </a:cubicBezTo>
                <a:cubicBezTo>
                  <a:pt x="1495864" y="2018276"/>
                  <a:pt x="1497627" y="1998533"/>
                  <a:pt x="1505243" y="1980762"/>
                </a:cubicBezTo>
                <a:cubicBezTo>
                  <a:pt x="1511903" y="1965222"/>
                  <a:pt x="1527442" y="1954390"/>
                  <a:pt x="1533378" y="1938559"/>
                </a:cubicBezTo>
                <a:cubicBezTo>
                  <a:pt x="1541774" y="1916171"/>
                  <a:pt x="1541647" y="1891417"/>
                  <a:pt x="1547446" y="1868220"/>
                </a:cubicBezTo>
                <a:cubicBezTo>
                  <a:pt x="1551043" y="1853834"/>
                  <a:pt x="1556825" y="1840085"/>
                  <a:pt x="1561514" y="1826017"/>
                </a:cubicBezTo>
                <a:cubicBezTo>
                  <a:pt x="1566203" y="1685340"/>
                  <a:pt x="1563210" y="1544196"/>
                  <a:pt x="1575581" y="1403986"/>
                </a:cubicBezTo>
                <a:cubicBezTo>
                  <a:pt x="1577424" y="1383096"/>
                  <a:pt x="1600269" y="1368401"/>
                  <a:pt x="1603717" y="1347716"/>
                </a:cubicBezTo>
                <a:cubicBezTo>
                  <a:pt x="1614537" y="1282795"/>
                  <a:pt x="1610094" y="1216134"/>
                  <a:pt x="1617784" y="1150768"/>
                </a:cubicBezTo>
                <a:cubicBezTo>
                  <a:pt x="1619517" y="1136041"/>
                  <a:pt x="1628635" y="1123041"/>
                  <a:pt x="1631852" y="1108565"/>
                </a:cubicBezTo>
                <a:cubicBezTo>
                  <a:pt x="1658135" y="990294"/>
                  <a:pt x="1634430" y="1047921"/>
                  <a:pt x="1659987" y="911617"/>
                </a:cubicBezTo>
                <a:cubicBezTo>
                  <a:pt x="1667113" y="873611"/>
                  <a:pt x="1675895" y="835760"/>
                  <a:pt x="1688123" y="799076"/>
                </a:cubicBezTo>
                <a:cubicBezTo>
                  <a:pt x="1702888" y="754782"/>
                  <a:pt x="1705658" y="750071"/>
                  <a:pt x="1716258" y="700602"/>
                </a:cubicBezTo>
                <a:cubicBezTo>
                  <a:pt x="1726278" y="653842"/>
                  <a:pt x="1717868" y="599715"/>
                  <a:pt x="1744394" y="559925"/>
                </a:cubicBezTo>
                <a:cubicBezTo>
                  <a:pt x="1787243" y="495651"/>
                  <a:pt x="1760574" y="529677"/>
                  <a:pt x="1828800" y="461451"/>
                </a:cubicBezTo>
                <a:lnTo>
                  <a:pt x="1871003" y="419248"/>
                </a:lnTo>
                <a:cubicBezTo>
                  <a:pt x="1889760" y="423937"/>
                  <a:pt x="1912421" y="420939"/>
                  <a:pt x="1927274" y="433316"/>
                </a:cubicBezTo>
                <a:cubicBezTo>
                  <a:pt x="1943384" y="446741"/>
                  <a:pt x="1948046" y="469951"/>
                  <a:pt x="1955409" y="489586"/>
                </a:cubicBezTo>
                <a:cubicBezTo>
                  <a:pt x="1963926" y="512297"/>
                  <a:pt x="1979723" y="597089"/>
                  <a:pt x="1983544" y="616196"/>
                </a:cubicBezTo>
                <a:cubicBezTo>
                  <a:pt x="1978855" y="728737"/>
                  <a:pt x="1979991" y="841673"/>
                  <a:pt x="1969477" y="953820"/>
                </a:cubicBezTo>
                <a:cubicBezTo>
                  <a:pt x="1961437" y="1039576"/>
                  <a:pt x="1944483" y="1045466"/>
                  <a:pt x="1927274" y="1108565"/>
                </a:cubicBezTo>
                <a:cubicBezTo>
                  <a:pt x="1917100" y="1145871"/>
                  <a:pt x="1911366" y="1184422"/>
                  <a:pt x="1899138" y="1221106"/>
                </a:cubicBezTo>
                <a:cubicBezTo>
                  <a:pt x="1889760" y="1249242"/>
                  <a:pt x="1878196" y="1276741"/>
                  <a:pt x="1871003" y="1305513"/>
                </a:cubicBezTo>
                <a:cubicBezTo>
                  <a:pt x="1861624" y="1343027"/>
                  <a:pt x="1857228" y="1382151"/>
                  <a:pt x="1842867" y="1418054"/>
                </a:cubicBezTo>
                <a:cubicBezTo>
                  <a:pt x="1833489" y="1441500"/>
                  <a:pt x="1821988" y="1464206"/>
                  <a:pt x="1814732" y="1488393"/>
                </a:cubicBezTo>
                <a:cubicBezTo>
                  <a:pt x="1807861" y="1511295"/>
                  <a:pt x="1805851" y="1535390"/>
                  <a:pt x="1800664" y="1558731"/>
                </a:cubicBezTo>
                <a:cubicBezTo>
                  <a:pt x="1796470" y="1577605"/>
                  <a:pt x="1790056" y="1595980"/>
                  <a:pt x="1786597" y="1615002"/>
                </a:cubicBezTo>
                <a:cubicBezTo>
                  <a:pt x="1762674" y="1746579"/>
                  <a:pt x="1775977" y="1744023"/>
                  <a:pt x="1758461" y="1910423"/>
                </a:cubicBezTo>
                <a:cubicBezTo>
                  <a:pt x="1755958" y="1934202"/>
                  <a:pt x="1749083" y="1957316"/>
                  <a:pt x="1744394" y="1980762"/>
                </a:cubicBezTo>
                <a:cubicBezTo>
                  <a:pt x="1749083" y="2126128"/>
                  <a:pt x="1749920" y="2271669"/>
                  <a:pt x="1758461" y="2416860"/>
                </a:cubicBezTo>
                <a:cubicBezTo>
                  <a:pt x="1760080" y="2444387"/>
                  <a:pt x="1776930" y="2472958"/>
                  <a:pt x="1800664" y="2487199"/>
                </a:cubicBezTo>
                <a:cubicBezTo>
                  <a:pt x="1813379" y="2494828"/>
                  <a:pt x="1828799" y="2496577"/>
                  <a:pt x="1842867" y="2501266"/>
                </a:cubicBezTo>
                <a:cubicBezTo>
                  <a:pt x="1875692" y="2496577"/>
                  <a:pt x="1911684" y="2502028"/>
                  <a:pt x="1941341" y="2487199"/>
                </a:cubicBezTo>
                <a:cubicBezTo>
                  <a:pt x="1970999" y="2472370"/>
                  <a:pt x="2011680" y="2416860"/>
                  <a:pt x="2011680" y="2416860"/>
                </a:cubicBezTo>
                <a:lnTo>
                  <a:pt x="2039815" y="2332454"/>
                </a:lnTo>
                <a:lnTo>
                  <a:pt x="2053883" y="2290251"/>
                </a:lnTo>
                <a:cubicBezTo>
                  <a:pt x="2058572" y="2149574"/>
                  <a:pt x="2059921" y="2008746"/>
                  <a:pt x="2067951" y="1868220"/>
                </a:cubicBezTo>
                <a:cubicBezTo>
                  <a:pt x="2069315" y="1844349"/>
                  <a:pt x="2077741" y="1821407"/>
                  <a:pt x="2082018" y="1797882"/>
                </a:cubicBezTo>
                <a:cubicBezTo>
                  <a:pt x="2087120" y="1769819"/>
                  <a:pt x="2091397" y="1741611"/>
                  <a:pt x="2096086" y="1713476"/>
                </a:cubicBezTo>
                <a:cubicBezTo>
                  <a:pt x="2100775" y="1643137"/>
                  <a:pt x="2105889" y="1572826"/>
                  <a:pt x="2110154" y="1502460"/>
                </a:cubicBezTo>
                <a:cubicBezTo>
                  <a:pt x="2116598" y="1396138"/>
                  <a:pt x="2115977" y="1262325"/>
                  <a:pt x="2138289" y="1150768"/>
                </a:cubicBezTo>
                <a:cubicBezTo>
                  <a:pt x="2141197" y="1136227"/>
                  <a:pt x="2147668" y="1122633"/>
                  <a:pt x="2152357" y="1108565"/>
                </a:cubicBezTo>
                <a:cubicBezTo>
                  <a:pt x="2157046" y="1056983"/>
                  <a:pt x="2160372" y="1005260"/>
                  <a:pt x="2166424" y="953820"/>
                </a:cubicBezTo>
                <a:cubicBezTo>
                  <a:pt x="2173333" y="895089"/>
                  <a:pt x="2184194" y="856090"/>
                  <a:pt x="2194560" y="799076"/>
                </a:cubicBezTo>
                <a:cubicBezTo>
                  <a:pt x="2199662" y="771012"/>
                  <a:pt x="2204290" y="742861"/>
                  <a:pt x="2208627" y="714669"/>
                </a:cubicBezTo>
                <a:cubicBezTo>
                  <a:pt x="2213669" y="681897"/>
                  <a:pt x="2215239" y="648504"/>
                  <a:pt x="2222695" y="616196"/>
                </a:cubicBezTo>
                <a:cubicBezTo>
                  <a:pt x="2229364" y="587298"/>
                  <a:pt x="2243638" y="560561"/>
                  <a:pt x="2250831" y="531789"/>
                </a:cubicBezTo>
                <a:lnTo>
                  <a:pt x="2264898" y="475519"/>
                </a:lnTo>
                <a:cubicBezTo>
                  <a:pt x="2286542" y="259088"/>
                  <a:pt x="2265217" y="403747"/>
                  <a:pt x="2293034" y="278571"/>
                </a:cubicBezTo>
                <a:cubicBezTo>
                  <a:pt x="2298221" y="255230"/>
                  <a:pt x="2298706" y="230621"/>
                  <a:pt x="2307101" y="208233"/>
                </a:cubicBezTo>
                <a:cubicBezTo>
                  <a:pt x="2313038" y="192402"/>
                  <a:pt x="2325858" y="180097"/>
                  <a:pt x="2335237" y="166029"/>
                </a:cubicBezTo>
                <a:cubicBezTo>
                  <a:pt x="2372751" y="170718"/>
                  <a:pt x="2411567" y="169233"/>
                  <a:pt x="2447778" y="180097"/>
                </a:cubicBezTo>
                <a:cubicBezTo>
                  <a:pt x="2480106" y="189796"/>
                  <a:pt x="2478756" y="227986"/>
                  <a:pt x="2489981" y="250436"/>
                </a:cubicBezTo>
                <a:cubicBezTo>
                  <a:pt x="2502209" y="274892"/>
                  <a:pt x="2518116" y="297328"/>
                  <a:pt x="2532184" y="320774"/>
                </a:cubicBezTo>
                <a:cubicBezTo>
                  <a:pt x="2527495" y="498965"/>
                  <a:pt x="2526802" y="677305"/>
                  <a:pt x="2518117" y="855346"/>
                </a:cubicBezTo>
                <a:cubicBezTo>
                  <a:pt x="2517395" y="870157"/>
                  <a:pt x="2507951" y="883243"/>
                  <a:pt x="2504049" y="897549"/>
                </a:cubicBezTo>
                <a:cubicBezTo>
                  <a:pt x="2493875" y="934855"/>
                  <a:pt x="2481383" y="971811"/>
                  <a:pt x="2475914" y="1010091"/>
                </a:cubicBezTo>
                <a:cubicBezTo>
                  <a:pt x="2471225" y="1042916"/>
                  <a:pt x="2468349" y="1076051"/>
                  <a:pt x="2461846" y="1108565"/>
                </a:cubicBezTo>
                <a:cubicBezTo>
                  <a:pt x="2454263" y="1146482"/>
                  <a:pt x="2443089" y="1183592"/>
                  <a:pt x="2433711" y="1221106"/>
                </a:cubicBezTo>
                <a:cubicBezTo>
                  <a:pt x="2422624" y="1265452"/>
                  <a:pt x="2420712" y="1279214"/>
                  <a:pt x="2405575" y="1319580"/>
                </a:cubicBezTo>
                <a:cubicBezTo>
                  <a:pt x="2396708" y="1343225"/>
                  <a:pt x="2386818" y="1366473"/>
                  <a:pt x="2377440" y="1389919"/>
                </a:cubicBezTo>
                <a:cubicBezTo>
                  <a:pt x="2372751" y="1418054"/>
                  <a:pt x="2367709" y="1446133"/>
                  <a:pt x="2363372" y="1474325"/>
                </a:cubicBezTo>
                <a:cubicBezTo>
                  <a:pt x="2358330" y="1507097"/>
                  <a:pt x="2355807" y="1540285"/>
                  <a:pt x="2349304" y="1572799"/>
                </a:cubicBezTo>
                <a:cubicBezTo>
                  <a:pt x="2346396" y="1587340"/>
                  <a:pt x="2339926" y="1600934"/>
                  <a:pt x="2335237" y="1615002"/>
                </a:cubicBezTo>
                <a:cubicBezTo>
                  <a:pt x="2330548" y="1652516"/>
                  <a:pt x="2327932" y="1690347"/>
                  <a:pt x="2321169" y="1727543"/>
                </a:cubicBezTo>
                <a:cubicBezTo>
                  <a:pt x="2318516" y="1742132"/>
                  <a:pt x="2310697" y="1755360"/>
                  <a:pt x="2307101" y="1769746"/>
                </a:cubicBezTo>
                <a:cubicBezTo>
                  <a:pt x="2301302" y="1792943"/>
                  <a:pt x="2297723" y="1816639"/>
                  <a:pt x="2293034" y="1840085"/>
                </a:cubicBezTo>
                <a:cubicBezTo>
                  <a:pt x="2297723" y="2097993"/>
                  <a:pt x="2283319" y="2356956"/>
                  <a:pt x="2307101" y="2613808"/>
                </a:cubicBezTo>
                <a:cubicBezTo>
                  <a:pt x="2308884" y="2633060"/>
                  <a:pt x="2347639" y="2610978"/>
                  <a:pt x="2363372" y="2599740"/>
                </a:cubicBezTo>
                <a:cubicBezTo>
                  <a:pt x="2382451" y="2586112"/>
                  <a:pt x="2391507" y="2562226"/>
                  <a:pt x="2405575" y="2543469"/>
                </a:cubicBezTo>
                <a:cubicBezTo>
                  <a:pt x="2431175" y="2441073"/>
                  <a:pt x="2405400" y="2533398"/>
                  <a:pt x="2447778" y="2416860"/>
                </a:cubicBezTo>
                <a:cubicBezTo>
                  <a:pt x="2457913" y="2388988"/>
                  <a:pt x="2475914" y="2332454"/>
                  <a:pt x="2475914" y="2332454"/>
                </a:cubicBezTo>
                <a:cubicBezTo>
                  <a:pt x="2480603" y="2022965"/>
                  <a:pt x="2477772" y="1713270"/>
                  <a:pt x="2489981" y="1403986"/>
                </a:cubicBezTo>
                <a:cubicBezTo>
                  <a:pt x="2491867" y="1356202"/>
                  <a:pt x="2512836" y="1310838"/>
                  <a:pt x="2518117" y="1263309"/>
                </a:cubicBezTo>
                <a:cubicBezTo>
                  <a:pt x="2522806" y="1221106"/>
                  <a:pt x="2526572" y="1178790"/>
                  <a:pt x="2532184" y="1136700"/>
                </a:cubicBezTo>
                <a:cubicBezTo>
                  <a:pt x="2535954" y="1108427"/>
                  <a:pt x="2542482" y="1080567"/>
                  <a:pt x="2546252" y="1052294"/>
                </a:cubicBezTo>
                <a:cubicBezTo>
                  <a:pt x="2551864" y="1010204"/>
                  <a:pt x="2555053" y="967820"/>
                  <a:pt x="2560320" y="925685"/>
                </a:cubicBezTo>
                <a:cubicBezTo>
                  <a:pt x="2565963" y="880539"/>
                  <a:pt x="2579652" y="789753"/>
                  <a:pt x="2588455" y="742805"/>
                </a:cubicBezTo>
                <a:cubicBezTo>
                  <a:pt x="2597268" y="695803"/>
                  <a:pt x="2616591" y="602128"/>
                  <a:pt x="2616591" y="602128"/>
                </a:cubicBezTo>
                <a:cubicBezTo>
                  <a:pt x="2621280" y="555236"/>
                  <a:pt x="2623492" y="508029"/>
                  <a:pt x="2630658" y="461451"/>
                </a:cubicBezTo>
                <a:cubicBezTo>
                  <a:pt x="2632913" y="446795"/>
                  <a:pt x="2640652" y="433506"/>
                  <a:pt x="2644726" y="419248"/>
                </a:cubicBezTo>
                <a:cubicBezTo>
                  <a:pt x="2650038" y="400658"/>
                  <a:pt x="2653238" y="381496"/>
                  <a:pt x="2658794" y="362977"/>
                </a:cubicBezTo>
                <a:cubicBezTo>
                  <a:pt x="2667316" y="334571"/>
                  <a:pt x="2677551" y="306706"/>
                  <a:pt x="2686929" y="278571"/>
                </a:cubicBezTo>
                <a:cubicBezTo>
                  <a:pt x="2691618" y="264503"/>
                  <a:pt x="2692772" y="248706"/>
                  <a:pt x="2700997" y="236368"/>
                </a:cubicBezTo>
                <a:cubicBezTo>
                  <a:pt x="2787584" y="106485"/>
                  <a:pt x="2677094" y="266245"/>
                  <a:pt x="2757267" y="166029"/>
                </a:cubicBezTo>
                <a:cubicBezTo>
                  <a:pt x="2890090" y="0"/>
                  <a:pt x="2695454" y="237647"/>
                  <a:pt x="2799471" y="81623"/>
                </a:cubicBezTo>
                <a:cubicBezTo>
                  <a:pt x="2821135" y="49127"/>
                  <a:pt x="2852735" y="32046"/>
                  <a:pt x="2883877" y="11285"/>
                </a:cubicBezTo>
                <a:cubicBezTo>
                  <a:pt x="2902634" y="20663"/>
                  <a:pt x="2927565" y="22644"/>
                  <a:pt x="2940147" y="39420"/>
                </a:cubicBezTo>
                <a:cubicBezTo>
                  <a:pt x="2957941" y="63146"/>
                  <a:pt x="2968283" y="123826"/>
                  <a:pt x="2968283" y="123826"/>
                </a:cubicBezTo>
                <a:cubicBezTo>
                  <a:pt x="2995823" y="289065"/>
                  <a:pt x="2996338" y="255886"/>
                  <a:pt x="2968283" y="517722"/>
                </a:cubicBezTo>
                <a:cubicBezTo>
                  <a:pt x="2965123" y="547211"/>
                  <a:pt x="2945963" y="573047"/>
                  <a:pt x="2940147" y="602128"/>
                </a:cubicBezTo>
                <a:cubicBezTo>
                  <a:pt x="2934571" y="630011"/>
                  <a:pt x="2921947" y="698930"/>
                  <a:pt x="2912012" y="728737"/>
                </a:cubicBezTo>
                <a:cubicBezTo>
                  <a:pt x="2904027" y="752694"/>
                  <a:pt x="2891133" y="774889"/>
                  <a:pt x="2883877" y="799076"/>
                </a:cubicBezTo>
                <a:cubicBezTo>
                  <a:pt x="2877006" y="821978"/>
                  <a:pt x="2874996" y="846073"/>
                  <a:pt x="2869809" y="869414"/>
                </a:cubicBezTo>
                <a:cubicBezTo>
                  <a:pt x="2858033" y="922404"/>
                  <a:pt x="2857338" y="920893"/>
                  <a:pt x="2841674" y="967888"/>
                </a:cubicBezTo>
                <a:cubicBezTo>
                  <a:pt x="2836985" y="1010091"/>
                  <a:pt x="2833218" y="1052407"/>
                  <a:pt x="2827606" y="1094497"/>
                </a:cubicBezTo>
                <a:cubicBezTo>
                  <a:pt x="2820408" y="1148480"/>
                  <a:pt x="2810077" y="1196208"/>
                  <a:pt x="2799471" y="1249242"/>
                </a:cubicBezTo>
                <a:cubicBezTo>
                  <a:pt x="2798751" y="1281642"/>
                  <a:pt x="2805837" y="1801891"/>
                  <a:pt x="2771335" y="2008897"/>
                </a:cubicBezTo>
                <a:cubicBezTo>
                  <a:pt x="2768897" y="2023524"/>
                  <a:pt x="2761956" y="2037032"/>
                  <a:pt x="2757267" y="2051100"/>
                </a:cubicBezTo>
                <a:cubicBezTo>
                  <a:pt x="2744526" y="2165772"/>
                  <a:pt x="2747174" y="2162886"/>
                  <a:pt x="2729132" y="2262116"/>
                </a:cubicBezTo>
                <a:cubicBezTo>
                  <a:pt x="2714183" y="2344336"/>
                  <a:pt x="2704480" y="2361534"/>
                  <a:pt x="2700997" y="2459063"/>
                </a:cubicBezTo>
                <a:cubicBezTo>
                  <a:pt x="2697817" y="2548102"/>
                  <a:pt x="2700997" y="2637254"/>
                  <a:pt x="2700997" y="2726349"/>
                </a:cubicBezTo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ovéPole 63"/>
          <p:cNvSpPr/>
          <p:nvPr/>
        </p:nvSpPr>
        <p:spPr>
          <a:xfrm>
            <a:off x="831600" y="47973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rchol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ovéPole 64"/>
          <p:cNvSpPr/>
          <p:nvPr/>
        </p:nvSpPr>
        <p:spPr>
          <a:xfrm>
            <a:off x="3214440" y="5805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eno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ovéPole 65"/>
          <p:cNvSpPr/>
          <p:nvPr/>
        </p:nvSpPr>
        <p:spPr>
          <a:xfrm>
            <a:off x="2854080" y="3068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eno úh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5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5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ovéPole 9"/>
          <p:cNvSpPr/>
          <p:nvPr/>
        </p:nvSpPr>
        <p:spPr>
          <a:xfrm>
            <a:off x="183240" y="2205000"/>
            <a:ext cx="836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ějme dány bod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é jsou nekolineární. Průnik polorovin →VAB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 se nazývá konvexní úhel AVB.  Polopřímky →VA a →VB se nazývaj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ena úhlu a jejich společný počátek V se nazývá vrchol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aoblený obdélník 13"/>
          <p:cNvSpPr/>
          <p:nvPr/>
        </p:nvSpPr>
        <p:spPr>
          <a:xfrm>
            <a:off x="684360" y="407664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známe úh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aoblený obdélník 15"/>
          <p:cNvSpPr/>
          <p:nvPr/>
        </p:nvSpPr>
        <p:spPr>
          <a:xfrm>
            <a:off x="5003640" y="4076640"/>
            <a:ext cx="259092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je kladný a co záporný úh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aoblený obdélník 16"/>
          <p:cNvSpPr/>
          <p:nvPr/>
        </p:nvSpPr>
        <p:spPr>
          <a:xfrm>
            <a:off x="539640" y="5445000"/>
            <a:ext cx="784872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je konvexní a co nekonvexní úhel. Jak se sčítání konvexní úh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6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3686040" cy="2340000"/>
          </a:xfrm>
          <a:prstGeom prst="rect">
            <a:avLst/>
          </a:prstGeom>
          <a:ln w="0">
            <a:noFill/>
          </a:ln>
        </p:spPr>
      </p:pic>
      <p:sp>
        <p:nvSpPr>
          <p:cNvPr id="465" name="TextovéPole 6"/>
          <p:cNvSpPr/>
          <p:nvPr/>
        </p:nvSpPr>
        <p:spPr>
          <a:xfrm>
            <a:off x="335880" y="4724280"/>
            <a:ext cx="864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ějme tři nekolineární body A, B, C. Průnik polorovin →ABC, →BCA a →C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azývá trojúhelník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Zaoblený obdélník 3" descr=""/>
          <p:cNvPicPr/>
          <p:nvPr/>
        </p:nvPicPr>
        <p:blipFill>
          <a:blip r:embed="rId2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234" name="Obdélník 10" descr=""/>
          <p:cNvPicPr/>
          <p:nvPr/>
        </p:nvPicPr>
        <p:blipFill>
          <a:blip r:embed="rId3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3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14"/>
          <p:cNvSpPr/>
          <p:nvPr/>
        </p:nvSpPr>
        <p:spPr>
          <a:xfrm>
            <a:off x="370440" y="2492280"/>
            <a:ext cx="858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chceme zkoumat geometrické obrazce jako množiny bodů, je také potře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 tomu vyhledat vhodnou geometrickou oblast. Jak se této oblasti geometrie říká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aoblený obdélník 15"/>
          <p:cNvSpPr/>
          <p:nvPr/>
        </p:nvSpPr>
        <p:spPr>
          <a:xfrm>
            <a:off x="3203640" y="3573360"/>
            <a:ext cx="302400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erpetua"/>
              </a:rPr>
              <a:t>Planime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ovéPole 16"/>
          <p:cNvSpPr/>
          <p:nvPr/>
        </p:nvSpPr>
        <p:spPr>
          <a:xfrm>
            <a:off x="1780200" y="5300640"/>
            <a:ext cx="60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í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né geometrické útvary jsou množiny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ovéPole 21"/>
          <p:cNvSpPr/>
          <p:nvPr/>
        </p:nvSpPr>
        <p:spPr>
          <a:xfrm>
            <a:off x="774000" y="4581360"/>
            <a:ext cx="76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hlediska školské matematiky se spíše jedná o jejich intuitivní před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ovéPole 5"/>
          <p:cNvSpPr/>
          <p:nvPr/>
        </p:nvSpPr>
        <p:spPr>
          <a:xfrm>
            <a:off x="331200" y="2133720"/>
            <a:ext cx="270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dělíme trojúhelní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velikosti str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dělíme trojúhel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velikosti úhl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iš následující pojm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Šipka doprava 6"/>
          <p:cNvSpPr/>
          <p:nvPr/>
        </p:nvSpPr>
        <p:spPr>
          <a:xfrm>
            <a:off x="3419640" y="2276640"/>
            <a:ext cx="1368360" cy="5760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Šipka doprava 8"/>
          <p:cNvSpPr/>
          <p:nvPr/>
        </p:nvSpPr>
        <p:spPr>
          <a:xfrm>
            <a:off x="3406680" y="3486240"/>
            <a:ext cx="1368360" cy="5760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ovéPole 9"/>
          <p:cNvSpPr/>
          <p:nvPr/>
        </p:nvSpPr>
        <p:spPr>
          <a:xfrm>
            <a:off x="5224680" y="2205000"/>
            <a:ext cx="175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nostran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noramen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ůznostran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c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ovéPole 13"/>
          <p:cNvSpPr/>
          <p:nvPr/>
        </p:nvSpPr>
        <p:spPr>
          <a:xfrm>
            <a:off x="5227560" y="350028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roúhlý (Má všechny úhly ostr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oúhlý (Má jeden úhel tup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oúhlý (Má pravý úh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aoblený obdélník 14"/>
          <p:cNvSpPr/>
          <p:nvPr/>
        </p:nvSpPr>
        <p:spPr>
          <a:xfrm>
            <a:off x="395280" y="5373720"/>
            <a:ext cx="1944720" cy="503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ěž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Zaoblený obdélník 16"/>
          <p:cNvSpPr/>
          <p:nvPr/>
        </p:nvSpPr>
        <p:spPr>
          <a:xfrm>
            <a:off x="2556000" y="5373720"/>
            <a:ext cx="1944720" cy="503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aoblený obdélník 17"/>
          <p:cNvSpPr/>
          <p:nvPr/>
        </p:nvSpPr>
        <p:spPr>
          <a:xfrm>
            <a:off x="5435640" y="4869000"/>
            <a:ext cx="30240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dále víte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úhel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2000" fill="hold"/>
                                        <p:tgtEl>
                                          <p:spTgt spid="4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7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8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Zaoblený obdélník 7"/>
          <p:cNvSpPr/>
          <p:nvPr/>
        </p:nvSpPr>
        <p:spPr>
          <a:xfrm>
            <a:off x="2700360" y="530064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znamená, že je konvexní nebo nekonvex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63360" y="-1033560"/>
            <a:ext cx="2143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63360" y="-1033560"/>
            <a:ext cx="2143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http://planimetrie.chytrak.cz/img/nuhelnik.gif"/>
          <p:cNvPicPr/>
          <p:nvPr/>
        </p:nvPicPr>
        <p:blipFill>
          <a:blip r:embed="rId3"/>
          <a:stretch/>
        </p:blipFill>
        <p:spPr>
          <a:xfrm>
            <a:off x="468360" y="1989000"/>
            <a:ext cx="2735280" cy="271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http://sketchup.google.com/crimages/bm-166674-Venice6.jpg"/>
          <p:cNvPicPr/>
          <p:nvPr/>
        </p:nvPicPr>
        <p:blipFill>
          <a:blip r:embed="rId4"/>
          <a:stretch/>
        </p:blipFill>
        <p:spPr>
          <a:xfrm>
            <a:off x="4427640" y="2060640"/>
            <a:ext cx="301932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48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48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"/>
          <p:cNvSpPr/>
          <p:nvPr/>
        </p:nvSpPr>
        <p:spPr>
          <a:xfrm>
            <a:off x="63360" y="-1033560"/>
            <a:ext cx="2143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63360" y="-1033560"/>
            <a:ext cx="2143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Šestiúhelník 11"/>
          <p:cNvSpPr/>
          <p:nvPr/>
        </p:nvSpPr>
        <p:spPr>
          <a:xfrm>
            <a:off x="2987640" y="2997360"/>
            <a:ext cx="3240000" cy="27352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d9d9d9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ovéPole 12"/>
          <p:cNvSpPr/>
          <p:nvPr/>
        </p:nvSpPr>
        <p:spPr>
          <a:xfrm>
            <a:off x="349488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ovéPole 13"/>
          <p:cNvSpPr/>
          <p:nvPr/>
        </p:nvSpPr>
        <p:spPr>
          <a:xfrm>
            <a:off x="536652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ovéPole 14"/>
          <p:cNvSpPr/>
          <p:nvPr/>
        </p:nvSpPr>
        <p:spPr>
          <a:xfrm>
            <a:off x="6158880" y="42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ovéPole 15"/>
          <p:cNvSpPr/>
          <p:nvPr/>
        </p:nvSpPr>
        <p:spPr>
          <a:xfrm>
            <a:off x="5439240" y="270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ovéPole 16"/>
          <p:cNvSpPr/>
          <p:nvPr/>
        </p:nvSpPr>
        <p:spPr>
          <a:xfrm>
            <a:off x="335052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ovéPole 17"/>
          <p:cNvSpPr/>
          <p:nvPr/>
        </p:nvSpPr>
        <p:spPr>
          <a:xfrm>
            <a:off x="2702520" y="42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římá spojovací čára 19"/>
          <p:cNvSpPr/>
          <p:nvPr/>
        </p:nvSpPr>
        <p:spPr>
          <a:xfrm>
            <a:off x="2050920" y="5732640"/>
            <a:ext cx="504216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římá spojovací čára 21"/>
          <p:cNvSpPr/>
          <p:nvPr/>
        </p:nvSpPr>
        <p:spPr>
          <a:xfrm flipV="1">
            <a:off x="2124000" y="2636640"/>
            <a:ext cx="7164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římá spojovací čára 22"/>
          <p:cNvSpPr/>
          <p:nvPr/>
        </p:nvSpPr>
        <p:spPr>
          <a:xfrm flipV="1">
            <a:off x="2411280" y="2636640"/>
            <a:ext cx="730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římá spojovací čára 23"/>
          <p:cNvSpPr/>
          <p:nvPr/>
        </p:nvSpPr>
        <p:spPr>
          <a:xfrm flipV="1">
            <a:off x="270036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římá spojovací čára 24"/>
          <p:cNvSpPr/>
          <p:nvPr/>
        </p:nvSpPr>
        <p:spPr>
          <a:xfrm flipV="1">
            <a:off x="2987640" y="2636640"/>
            <a:ext cx="7164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římá spojovací čára 25"/>
          <p:cNvSpPr/>
          <p:nvPr/>
        </p:nvSpPr>
        <p:spPr>
          <a:xfrm flipV="1">
            <a:off x="327672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římá spojovací čára 26"/>
          <p:cNvSpPr/>
          <p:nvPr/>
        </p:nvSpPr>
        <p:spPr>
          <a:xfrm flipV="1">
            <a:off x="356400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římá spojovací čára 27"/>
          <p:cNvSpPr/>
          <p:nvPr/>
        </p:nvSpPr>
        <p:spPr>
          <a:xfrm flipV="1">
            <a:off x="3851280" y="2636640"/>
            <a:ext cx="730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římá spojovací čára 28"/>
          <p:cNvSpPr/>
          <p:nvPr/>
        </p:nvSpPr>
        <p:spPr>
          <a:xfrm flipV="1">
            <a:off x="4211640" y="2636640"/>
            <a:ext cx="730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římá spojovací čára 29"/>
          <p:cNvSpPr/>
          <p:nvPr/>
        </p:nvSpPr>
        <p:spPr>
          <a:xfrm flipV="1">
            <a:off x="457200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římá spojovací čára 30"/>
          <p:cNvSpPr/>
          <p:nvPr/>
        </p:nvSpPr>
        <p:spPr>
          <a:xfrm flipV="1">
            <a:off x="493236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římá spojovací čára 31"/>
          <p:cNvSpPr/>
          <p:nvPr/>
        </p:nvSpPr>
        <p:spPr>
          <a:xfrm flipV="1">
            <a:off x="529272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římá spojovací čára 32"/>
          <p:cNvSpPr/>
          <p:nvPr/>
        </p:nvSpPr>
        <p:spPr>
          <a:xfrm flipV="1">
            <a:off x="5651640" y="2636640"/>
            <a:ext cx="7272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římá spojovací čára 33"/>
          <p:cNvSpPr/>
          <p:nvPr/>
        </p:nvSpPr>
        <p:spPr>
          <a:xfrm flipV="1">
            <a:off x="6012000" y="2636640"/>
            <a:ext cx="7272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římá spojovací čára 34"/>
          <p:cNvSpPr/>
          <p:nvPr/>
        </p:nvSpPr>
        <p:spPr>
          <a:xfrm flipV="1">
            <a:off x="637236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římá spojovací čára 35"/>
          <p:cNvSpPr/>
          <p:nvPr/>
        </p:nvSpPr>
        <p:spPr>
          <a:xfrm flipV="1">
            <a:off x="673272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římá spojovací čára 36"/>
          <p:cNvSpPr/>
          <p:nvPr/>
        </p:nvSpPr>
        <p:spPr>
          <a:xfrm flipV="1">
            <a:off x="7093080" y="2636640"/>
            <a:ext cx="71280" cy="3095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ovéPole 37"/>
          <p:cNvSpPr/>
          <p:nvPr/>
        </p:nvSpPr>
        <p:spPr>
          <a:xfrm>
            <a:off x="326520" y="256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00160" cy="287280"/>
          </a:xfrm>
          <a:prstGeom prst="rect">
            <a:avLst/>
          </a:prstGeom>
          <a:ln w="0">
            <a:noFill/>
          </a:ln>
        </p:spPr>
      </p:pic>
      <p:sp>
        <p:nvSpPr>
          <p:cNvPr id="519" name="TextovéPole 38"/>
          <p:cNvSpPr/>
          <p:nvPr/>
        </p:nvSpPr>
        <p:spPr>
          <a:xfrm>
            <a:off x="32652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1092240" cy="287280"/>
          </a:xfrm>
          <a:prstGeom prst="rect">
            <a:avLst/>
          </a:prstGeom>
          <a:ln w="0">
            <a:noFill/>
          </a:ln>
        </p:spPr>
      </p:pic>
      <p:sp>
        <p:nvSpPr>
          <p:cNvPr id="521" name="Přímá spojovací čára 41"/>
          <p:cNvSpPr/>
          <p:nvPr/>
        </p:nvSpPr>
        <p:spPr>
          <a:xfrm flipV="1">
            <a:off x="5364000" y="2852280"/>
            <a:ext cx="1656000" cy="331308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43"/>
          <p:cNvSpPr/>
          <p:nvPr/>
        </p:nvSpPr>
        <p:spPr>
          <a:xfrm flipH="1" flipV="1">
            <a:off x="2340000" y="378936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římá spojovací čára 44"/>
          <p:cNvSpPr/>
          <p:nvPr/>
        </p:nvSpPr>
        <p:spPr>
          <a:xfrm flipH="1" flipV="1">
            <a:off x="2268360" y="4076640"/>
            <a:ext cx="295128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římá spojovací čára 45"/>
          <p:cNvSpPr/>
          <p:nvPr/>
        </p:nvSpPr>
        <p:spPr>
          <a:xfrm flipH="1" flipV="1">
            <a:off x="1619280" y="400536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římá spojovací čára 46"/>
          <p:cNvSpPr/>
          <p:nvPr/>
        </p:nvSpPr>
        <p:spPr>
          <a:xfrm flipH="1" flipV="1">
            <a:off x="2627280" y="357336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římá spojovací čára 47"/>
          <p:cNvSpPr/>
          <p:nvPr/>
        </p:nvSpPr>
        <p:spPr>
          <a:xfrm flipH="1" flipV="1">
            <a:off x="2771640" y="328464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římá spojovací čára 48"/>
          <p:cNvSpPr/>
          <p:nvPr/>
        </p:nvSpPr>
        <p:spPr>
          <a:xfrm flipH="1" flipV="1">
            <a:off x="2843280" y="2924280"/>
            <a:ext cx="2952720" cy="22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římá spojovací čára 49"/>
          <p:cNvSpPr/>
          <p:nvPr/>
        </p:nvSpPr>
        <p:spPr>
          <a:xfrm flipH="1" flipV="1">
            <a:off x="2987640" y="263700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římá spojovací čára 50"/>
          <p:cNvSpPr/>
          <p:nvPr/>
        </p:nvSpPr>
        <p:spPr>
          <a:xfrm flipH="1" flipV="1">
            <a:off x="3203640" y="234936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římá spojovací čára 51"/>
          <p:cNvSpPr/>
          <p:nvPr/>
        </p:nvSpPr>
        <p:spPr>
          <a:xfrm flipH="1" flipV="1">
            <a:off x="3348000" y="2060640"/>
            <a:ext cx="29527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římá spojovací čára 52"/>
          <p:cNvSpPr/>
          <p:nvPr/>
        </p:nvSpPr>
        <p:spPr>
          <a:xfrm flipH="1" flipV="1">
            <a:off x="3995280" y="1988640"/>
            <a:ext cx="2521080" cy="1871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římá spojovací čára 56"/>
          <p:cNvSpPr/>
          <p:nvPr/>
        </p:nvSpPr>
        <p:spPr>
          <a:xfrm flipH="1" flipV="1">
            <a:off x="5076360" y="2060640"/>
            <a:ext cx="2016360" cy="3960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římá spojovací čára 58"/>
          <p:cNvSpPr/>
          <p:nvPr/>
        </p:nvSpPr>
        <p:spPr>
          <a:xfrm flipH="1">
            <a:off x="1908000" y="2276640"/>
            <a:ext cx="3168720" cy="936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římá spojovací čára 59"/>
          <p:cNvSpPr/>
          <p:nvPr/>
        </p:nvSpPr>
        <p:spPr>
          <a:xfrm flipH="1">
            <a:off x="2050920" y="2565360"/>
            <a:ext cx="3168720" cy="93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římá spojovací čára 60"/>
          <p:cNvSpPr/>
          <p:nvPr/>
        </p:nvSpPr>
        <p:spPr>
          <a:xfrm flipH="1">
            <a:off x="2195280" y="2852640"/>
            <a:ext cx="3168360" cy="936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římá spojovací čára 61"/>
          <p:cNvSpPr/>
          <p:nvPr/>
        </p:nvSpPr>
        <p:spPr>
          <a:xfrm flipH="1">
            <a:off x="2411280" y="3141720"/>
            <a:ext cx="3168720" cy="93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římá spojovací čára 62"/>
          <p:cNvSpPr/>
          <p:nvPr/>
        </p:nvSpPr>
        <p:spPr>
          <a:xfrm flipH="1">
            <a:off x="2555640" y="3429000"/>
            <a:ext cx="3168360" cy="936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římá spojovací čára 63"/>
          <p:cNvSpPr/>
          <p:nvPr/>
        </p:nvSpPr>
        <p:spPr>
          <a:xfrm flipH="1">
            <a:off x="2700000" y="3789360"/>
            <a:ext cx="3166920" cy="93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římá spojovací čára 64"/>
          <p:cNvSpPr/>
          <p:nvPr/>
        </p:nvSpPr>
        <p:spPr>
          <a:xfrm flipH="1">
            <a:off x="2843280" y="4149720"/>
            <a:ext cx="3168720" cy="934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římá spojovací čára 65"/>
          <p:cNvSpPr/>
          <p:nvPr/>
        </p:nvSpPr>
        <p:spPr>
          <a:xfrm flipH="1">
            <a:off x="3058920" y="4508640"/>
            <a:ext cx="3168360" cy="936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římá spojovací čára 66"/>
          <p:cNvSpPr/>
          <p:nvPr/>
        </p:nvSpPr>
        <p:spPr>
          <a:xfrm flipH="1">
            <a:off x="3203640" y="4869000"/>
            <a:ext cx="3168720" cy="9363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římá spojovací čára 67"/>
          <p:cNvSpPr/>
          <p:nvPr/>
        </p:nvSpPr>
        <p:spPr>
          <a:xfrm flipH="1">
            <a:off x="3348000" y="5157720"/>
            <a:ext cx="3168720" cy="9352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ovéPole 68"/>
          <p:cNvSpPr/>
          <p:nvPr/>
        </p:nvSpPr>
        <p:spPr>
          <a:xfrm>
            <a:off x="326520" y="39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1224000" cy="230400"/>
          </a:xfrm>
          <a:prstGeom prst="rect">
            <a:avLst/>
          </a:prstGeom>
          <a:ln w="0">
            <a:noFill/>
          </a:ln>
        </p:spPr>
      </p:pic>
      <p:sp>
        <p:nvSpPr>
          <p:cNvPr id="545" name="TextovéPole 70"/>
          <p:cNvSpPr/>
          <p:nvPr/>
        </p:nvSpPr>
        <p:spPr>
          <a:xfrm>
            <a:off x="470520" y="4508640"/>
            <a:ext cx="4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"/>
          <p:cNvPicPr/>
          <p:nvPr/>
        </p:nvPicPr>
        <p:blipFill>
          <a:blip r:embed="rId6"/>
          <a:stretch/>
        </p:blipFill>
        <p:spPr>
          <a:xfrm>
            <a:off x="755640" y="5732640"/>
            <a:ext cx="1281240" cy="28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54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4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TextovéPole 5"/>
          <p:cNvGrpSpPr/>
          <p:nvPr/>
        </p:nvGrpSpPr>
        <p:grpSpPr>
          <a:xfrm>
            <a:off x="334800" y="2286000"/>
            <a:ext cx="1060560" cy="725400"/>
            <a:chOff x="334800" y="2286000"/>
            <a:chExt cx="1060560" cy="725400"/>
          </a:xfrm>
        </p:grpSpPr>
        <p:pic>
          <p:nvPicPr>
            <p:cNvPr id="552" name="TextovéPole 5" descr=""/>
            <p:cNvPicPr/>
            <p:nvPr/>
          </p:nvPicPr>
          <p:blipFill>
            <a:blip r:embed="rId3"/>
            <a:stretch/>
          </p:blipFill>
          <p:spPr>
            <a:xfrm>
              <a:off x="334800" y="2286000"/>
              <a:ext cx="10605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473400" y="234936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TextovéPole 6"/>
          <p:cNvGrpSpPr/>
          <p:nvPr/>
        </p:nvGrpSpPr>
        <p:grpSpPr>
          <a:xfrm>
            <a:off x="334800" y="3797280"/>
            <a:ext cx="1543320" cy="725400"/>
            <a:chOff x="334800" y="3797280"/>
            <a:chExt cx="1543320" cy="725400"/>
          </a:xfrm>
        </p:grpSpPr>
        <p:pic>
          <p:nvPicPr>
            <p:cNvPr id="555" name="TextovéPole 6" descr=""/>
            <p:cNvPicPr/>
            <p:nvPr/>
          </p:nvPicPr>
          <p:blipFill>
            <a:blip r:embed="rId4"/>
            <a:stretch/>
          </p:blipFill>
          <p:spPr>
            <a:xfrm>
              <a:off x="334800" y="3797280"/>
              <a:ext cx="15433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02120" y="38606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užn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ovéPole 7"/>
          <p:cNvSpPr/>
          <p:nvPr/>
        </p:nvSpPr>
        <p:spPr>
          <a:xfrm>
            <a:off x="372960" y="4365720"/>
            <a:ext cx="875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ic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ze jednoduše definovat jako množinu všech bodů v rovině, které mají 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rétního bodu stejnou vzdálenost (tato vzdálenost je nazývána polomě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ice). Tento konkrétní bod se nazývá střed kruž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ovéPole 8"/>
          <p:cNvSpPr/>
          <p:nvPr/>
        </p:nvSpPr>
        <p:spPr>
          <a:xfrm>
            <a:off x="415440" y="2997360"/>
            <a:ext cx="83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jednocení všech shodných úseček SX, kde S je pevný bod a X náleží rovině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ývá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 se středem S a poloměrem S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ovéPole 9"/>
          <p:cNvSpPr/>
          <p:nvPr/>
        </p:nvSpPr>
        <p:spPr>
          <a:xfrm>
            <a:off x="368280" y="5732640"/>
            <a:ext cx="7610400" cy="36828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 by se definice změnili, kdybychom nehovořili o rovině, ale o prostor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Zaoblený obdélník 3" descr=""/>
          <p:cNvPicPr/>
          <p:nvPr/>
        </p:nvPicPr>
        <p:blipFill>
          <a:blip r:embed="rId1"/>
          <a:stretch/>
        </p:blipFill>
        <p:spPr>
          <a:xfrm>
            <a:off x="-23760" y="500040"/>
            <a:ext cx="9191520" cy="1749600"/>
          </a:xfrm>
          <a:prstGeom prst="rect">
            <a:avLst/>
          </a:prstGeom>
          <a:ln w="0">
            <a:noFill/>
          </a:ln>
        </p:spPr>
      </p:pic>
      <p:pic>
        <p:nvPicPr>
          <p:cNvPr id="56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6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ovéPole 9"/>
          <p:cNvSpPr/>
          <p:nvPr/>
        </p:nvSpPr>
        <p:spPr>
          <a:xfrm>
            <a:off x="1664280" y="2492280"/>
            <a:ext cx="58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i za Vaši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no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242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43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TextovéPole 9"/>
          <p:cNvGrpSpPr/>
          <p:nvPr/>
        </p:nvGrpSpPr>
        <p:grpSpPr>
          <a:xfrm>
            <a:off x="981000" y="2286000"/>
            <a:ext cx="7297920" cy="725400"/>
            <a:chOff x="981000" y="2286000"/>
            <a:chExt cx="7297920" cy="725400"/>
          </a:xfrm>
        </p:grpSpPr>
        <p:pic>
          <p:nvPicPr>
            <p:cNvPr id="246" name="TextovéPole 9" descr=""/>
            <p:cNvPicPr/>
            <p:nvPr/>
          </p:nvPicPr>
          <p:blipFill>
            <a:blip r:embed="rId3"/>
            <a:stretch/>
          </p:blipFill>
          <p:spPr>
            <a:xfrm>
              <a:off x="981000" y="2286000"/>
              <a:ext cx="7297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143360" y="2349360"/>
              <a:ext cx="70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terákoliv množina bodů se nazývá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ometrický útv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TextovéPole 11"/>
          <p:cNvGrpSpPr/>
          <p:nvPr/>
        </p:nvGrpSpPr>
        <p:grpSpPr>
          <a:xfrm>
            <a:off x="1487520" y="3584520"/>
            <a:ext cx="2773440" cy="719280"/>
            <a:chOff x="1487520" y="3584520"/>
            <a:chExt cx="2773440" cy="719280"/>
          </a:xfrm>
        </p:grpSpPr>
        <p:pic>
          <p:nvPicPr>
            <p:cNvPr id="249" name="TextovéPole 11" descr=""/>
            <p:cNvPicPr/>
            <p:nvPr/>
          </p:nvPicPr>
          <p:blipFill>
            <a:blip r:embed="rId4"/>
            <a:stretch/>
          </p:blipFill>
          <p:spPr>
            <a:xfrm>
              <a:off x="1487520" y="3584520"/>
              <a:ext cx="2773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629720" y="3645000"/>
              <a:ext cx="254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ožinová inklu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TextovéPole 12"/>
          <p:cNvGrpSpPr/>
          <p:nvPr/>
        </p:nvGrpSpPr>
        <p:grpSpPr>
          <a:xfrm>
            <a:off x="4657680" y="3584520"/>
            <a:ext cx="2419560" cy="719280"/>
            <a:chOff x="4657680" y="3584520"/>
            <a:chExt cx="2419560" cy="719280"/>
          </a:xfrm>
        </p:grpSpPr>
        <p:pic>
          <p:nvPicPr>
            <p:cNvPr id="252" name="TextovéPole 12" descr=""/>
            <p:cNvPicPr/>
            <p:nvPr/>
          </p:nvPicPr>
          <p:blipFill>
            <a:blip r:embed="rId5"/>
            <a:stretch/>
          </p:blipFill>
          <p:spPr>
            <a:xfrm>
              <a:off x="4657680" y="3584520"/>
              <a:ext cx="2419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798080" y="36450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vnost množ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ovéPole 13"/>
          <p:cNvSpPr/>
          <p:nvPr/>
        </p:nvSpPr>
        <p:spPr>
          <a:xfrm>
            <a:off x="256320" y="3213000"/>
            <a:ext cx="1044720" cy="459720"/>
          </a:xfrm>
          <a:prstGeom prst="rect">
            <a:avLst/>
          </a:prstGeom>
          <a:solidFill>
            <a:srgbClr val="9b2d1f"/>
          </a:solidFill>
          <a:ln w="12600">
            <a:solidFill>
              <a:srgbClr val="711e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ovéPole 14"/>
          <p:cNvSpPr/>
          <p:nvPr/>
        </p:nvSpPr>
        <p:spPr>
          <a:xfrm>
            <a:off x="257040" y="4437000"/>
            <a:ext cx="1282680" cy="459720"/>
          </a:xfrm>
          <a:prstGeom prst="rect">
            <a:avLst/>
          </a:prstGeom>
          <a:solidFill>
            <a:srgbClr val="9b2d1f"/>
          </a:solidFill>
          <a:ln w="12600">
            <a:solidFill>
              <a:srgbClr val="711e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TextovéPole 17"/>
          <p:cNvGrpSpPr/>
          <p:nvPr/>
        </p:nvGrpSpPr>
        <p:grpSpPr>
          <a:xfrm>
            <a:off x="841320" y="5095800"/>
            <a:ext cx="1243080" cy="719280"/>
            <a:chOff x="841320" y="5095800"/>
            <a:chExt cx="1243080" cy="719280"/>
          </a:xfrm>
        </p:grpSpPr>
        <p:pic>
          <p:nvPicPr>
            <p:cNvPr id="257" name="TextovéPole 17" descr=""/>
            <p:cNvPicPr/>
            <p:nvPr/>
          </p:nvPicPr>
          <p:blipFill>
            <a:blip r:embed="rId6"/>
            <a:stretch/>
          </p:blipFill>
          <p:spPr>
            <a:xfrm>
              <a:off x="841320" y="5095800"/>
              <a:ext cx="12430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76680" y="51577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ůn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TextovéPole 18"/>
          <p:cNvGrpSpPr/>
          <p:nvPr/>
        </p:nvGrpSpPr>
        <p:grpSpPr>
          <a:xfrm>
            <a:off x="2279520" y="5095800"/>
            <a:ext cx="1835280" cy="719280"/>
            <a:chOff x="2279520" y="5095800"/>
            <a:chExt cx="1835280" cy="719280"/>
          </a:xfrm>
        </p:grpSpPr>
        <p:pic>
          <p:nvPicPr>
            <p:cNvPr id="260" name="TextovéPole 18" descr=""/>
            <p:cNvPicPr/>
            <p:nvPr/>
          </p:nvPicPr>
          <p:blipFill>
            <a:blip r:embed="rId7"/>
            <a:stretch/>
          </p:blipFill>
          <p:spPr>
            <a:xfrm>
              <a:off x="2279520" y="5095800"/>
              <a:ext cx="1835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411280" y="51577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jednoc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TextovéPole 19"/>
          <p:cNvGrpSpPr/>
          <p:nvPr/>
        </p:nvGrpSpPr>
        <p:grpSpPr>
          <a:xfrm>
            <a:off x="4363920" y="5095800"/>
            <a:ext cx="1244880" cy="719280"/>
            <a:chOff x="4363920" y="5095800"/>
            <a:chExt cx="1244880" cy="719280"/>
          </a:xfrm>
        </p:grpSpPr>
        <p:pic>
          <p:nvPicPr>
            <p:cNvPr id="263" name="TextovéPole 19" descr=""/>
            <p:cNvPicPr/>
            <p:nvPr/>
          </p:nvPicPr>
          <p:blipFill>
            <a:blip r:embed="rId8"/>
            <a:stretch/>
          </p:blipFill>
          <p:spPr>
            <a:xfrm>
              <a:off x="4363920" y="5095800"/>
              <a:ext cx="12448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05040" y="51577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zdí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TextovéPole 20"/>
          <p:cNvGrpSpPr/>
          <p:nvPr/>
        </p:nvGrpSpPr>
        <p:grpSpPr>
          <a:xfrm>
            <a:off x="5735520" y="5095800"/>
            <a:ext cx="1482840" cy="719280"/>
            <a:chOff x="5735520" y="5095800"/>
            <a:chExt cx="1482840" cy="719280"/>
          </a:xfrm>
        </p:grpSpPr>
        <p:pic>
          <p:nvPicPr>
            <p:cNvPr id="266" name="TextovéPole 20" descr=""/>
            <p:cNvPicPr/>
            <p:nvPr/>
          </p:nvPicPr>
          <p:blipFill>
            <a:blip r:embed="rId9"/>
            <a:stretch/>
          </p:blipFill>
          <p:spPr>
            <a:xfrm>
              <a:off x="5735520" y="5095800"/>
              <a:ext cx="1482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874120" y="515772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plně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26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7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TextovéPole 14"/>
          <p:cNvGrpSpPr/>
          <p:nvPr/>
        </p:nvGrpSpPr>
        <p:grpSpPr>
          <a:xfrm>
            <a:off x="1127160" y="2359080"/>
            <a:ext cx="1244520" cy="725400"/>
            <a:chOff x="1127160" y="2359080"/>
            <a:chExt cx="1244520" cy="725400"/>
          </a:xfrm>
        </p:grpSpPr>
        <p:pic>
          <p:nvPicPr>
            <p:cNvPr id="273" name="TextovéPole 14" descr=""/>
            <p:cNvPicPr/>
            <p:nvPr/>
          </p:nvPicPr>
          <p:blipFill>
            <a:blip r:embed="rId3"/>
            <a:stretch/>
          </p:blipFill>
          <p:spPr>
            <a:xfrm>
              <a:off x="1127160" y="2359080"/>
              <a:ext cx="12445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264680" y="24210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ůn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ovéPole 15"/>
          <p:cNvGrpSpPr/>
          <p:nvPr/>
        </p:nvGrpSpPr>
        <p:grpSpPr>
          <a:xfrm>
            <a:off x="5516640" y="2359080"/>
            <a:ext cx="1841400" cy="725400"/>
            <a:chOff x="5516640" y="2359080"/>
            <a:chExt cx="1841400" cy="725400"/>
          </a:xfrm>
        </p:grpSpPr>
        <p:pic>
          <p:nvPicPr>
            <p:cNvPr id="276" name="TextovéPole 15" descr=""/>
            <p:cNvPicPr/>
            <p:nvPr/>
          </p:nvPicPr>
          <p:blipFill>
            <a:blip r:embed="rId4"/>
            <a:stretch/>
          </p:blipFill>
          <p:spPr>
            <a:xfrm>
              <a:off x="5516640" y="2359080"/>
              <a:ext cx="18414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651640" y="2421000"/>
              <a:ext cx="16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jednoc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" descr="http://www.karlin.mff.cuni.cz/katedry/kdm/diplomky/moravecdp/obrazky/vennprun.png"/>
          <p:cNvPicPr/>
          <p:nvPr/>
        </p:nvPicPr>
        <p:blipFill>
          <a:blip r:embed="rId5"/>
          <a:stretch/>
        </p:blipFill>
        <p:spPr>
          <a:xfrm>
            <a:off x="468360" y="328464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2952720" cy="20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281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82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TextovéPole 9"/>
          <p:cNvGrpSpPr/>
          <p:nvPr/>
        </p:nvGrpSpPr>
        <p:grpSpPr>
          <a:xfrm>
            <a:off x="1054080" y="2212920"/>
            <a:ext cx="1244520" cy="725400"/>
            <a:chOff x="1054080" y="2212920"/>
            <a:chExt cx="1244520" cy="725400"/>
          </a:xfrm>
        </p:grpSpPr>
        <p:pic>
          <p:nvPicPr>
            <p:cNvPr id="285" name="TextovéPole 9" descr=""/>
            <p:cNvPicPr/>
            <p:nvPr/>
          </p:nvPicPr>
          <p:blipFill>
            <a:blip r:embed="rId3"/>
            <a:stretch/>
          </p:blipFill>
          <p:spPr>
            <a:xfrm>
              <a:off x="1054080" y="2212920"/>
              <a:ext cx="12445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191600" y="22766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zdí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ovéPole 11"/>
          <p:cNvGrpSpPr/>
          <p:nvPr/>
        </p:nvGrpSpPr>
        <p:grpSpPr>
          <a:xfrm>
            <a:off x="5589720" y="2286000"/>
            <a:ext cx="1487520" cy="725400"/>
            <a:chOff x="5589720" y="2286000"/>
            <a:chExt cx="1487520" cy="725400"/>
          </a:xfrm>
        </p:grpSpPr>
        <p:pic>
          <p:nvPicPr>
            <p:cNvPr id="288" name="TextovéPole 11" descr=""/>
            <p:cNvPicPr/>
            <p:nvPr/>
          </p:nvPicPr>
          <p:blipFill>
            <a:blip r:embed="rId4"/>
            <a:stretch/>
          </p:blipFill>
          <p:spPr>
            <a:xfrm>
              <a:off x="5589720" y="2286000"/>
              <a:ext cx="14875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731200" y="23493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plně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2" descr="http://kdm.karlin.mff.cuni.cz/diplomky/moravecdp/obrazky/vennrozd1.png"/>
          <p:cNvPicPr/>
          <p:nvPr/>
        </p:nvPicPr>
        <p:blipFill>
          <a:blip r:embed="rId5"/>
          <a:stretch/>
        </p:blipFill>
        <p:spPr>
          <a:xfrm>
            <a:off x="468360" y="32130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6"/>
          <a:stretch/>
        </p:blipFill>
        <p:spPr>
          <a:xfrm>
            <a:off x="4788000" y="3213000"/>
            <a:ext cx="3009960" cy="202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29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29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ovéPole 8"/>
          <p:cNvSpPr/>
          <p:nvPr/>
        </p:nvSpPr>
        <p:spPr>
          <a:xfrm>
            <a:off x="773280" y="2205000"/>
            <a:ext cx="76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ěkteré pojmy v geometrii jsou na tolik základní nebo jednoduché, že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efinujeme a vychází z jejich geometrického poje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ovéPole 9"/>
          <p:cNvSpPr/>
          <p:nvPr/>
        </p:nvSpPr>
        <p:spPr>
          <a:xfrm>
            <a:off x="768240" y="3284640"/>
            <a:ext cx="45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i tyto pojmy patří zejména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aoblený obdélník 13">
            <a:hlinkClick r:id="rId3" action="ppaction://hlinksldjump"/>
          </p:cNvPr>
          <p:cNvSpPr/>
          <p:nvPr/>
        </p:nvSpPr>
        <p:spPr>
          <a:xfrm>
            <a:off x="900000" y="4437000"/>
            <a:ext cx="15112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aoblený obdélník 17">
            <a:hlinkClick r:id="rId4" action="ppaction://hlinksldjump"/>
          </p:cNvPr>
          <p:cNvSpPr/>
          <p:nvPr/>
        </p:nvSpPr>
        <p:spPr>
          <a:xfrm>
            <a:off x="3635280" y="4437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aoblený obdélník 18">
            <a:hlinkClick r:id="rId5" action="ppaction://hlinksldjump"/>
          </p:cNvPr>
          <p:cNvSpPr/>
          <p:nvPr/>
        </p:nvSpPr>
        <p:spPr>
          <a:xfrm>
            <a:off x="6156360" y="4437000"/>
            <a:ext cx="15112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Šipka nahoru 19"/>
          <p:cNvSpPr/>
          <p:nvPr/>
        </p:nvSpPr>
        <p:spPr>
          <a:xfrm>
            <a:off x="1332000" y="5373720"/>
            <a:ext cx="57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Šipka nahoru 20"/>
          <p:cNvSpPr/>
          <p:nvPr/>
        </p:nvSpPr>
        <p:spPr>
          <a:xfrm>
            <a:off x="4140360" y="5373720"/>
            <a:ext cx="57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Šipka nahoru 21"/>
          <p:cNvSpPr/>
          <p:nvPr/>
        </p:nvSpPr>
        <p:spPr>
          <a:xfrm>
            <a:off x="6588000" y="5373720"/>
            <a:ext cx="576360" cy="576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Zaoblený obdélník 3" descr=""/>
          <p:cNvPicPr/>
          <p:nvPr/>
        </p:nvPicPr>
        <p:blipFill>
          <a:blip r:embed="rId1"/>
          <a:stretch/>
        </p:blipFill>
        <p:spPr>
          <a:xfrm>
            <a:off x="-23760" y="560520"/>
            <a:ext cx="9191520" cy="1665000"/>
          </a:xfrm>
          <a:prstGeom prst="rect">
            <a:avLst/>
          </a:prstGeom>
          <a:ln w="0">
            <a:noFill/>
          </a:ln>
        </p:spPr>
      </p:pic>
      <p:pic>
        <p:nvPicPr>
          <p:cNvPr id="305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06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ovéPole 5"/>
          <p:cNvSpPr/>
          <p:nvPr/>
        </p:nvSpPr>
        <p:spPr>
          <a:xfrm>
            <a:off x="339840" y="2276640"/>
            <a:ext cx="875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stavu o tom, jak vypadá bod má asi každý z nás. Někdo jej symbolizuje tečk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grafu, jiný jako křížek, ale co je nejdůležitější je skutečnost, že bod nemá rozmě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ost ani tvar. Je to nedefinovatelný pojem a proto jej pouze popisuj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ovéPole 6"/>
          <p:cNvSpPr/>
          <p:nvPr/>
        </p:nvSpPr>
        <p:spPr>
          <a:xfrm>
            <a:off x="546120" y="4581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značíme bo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ovéPole 7"/>
          <p:cNvSpPr/>
          <p:nvPr/>
        </p:nvSpPr>
        <p:spPr>
          <a:xfrm>
            <a:off x="547920" y="522936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jsou vzájemné polohy bod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ovéPole 8"/>
          <p:cNvSpPr/>
          <p:nvPr/>
        </p:nvSpPr>
        <p:spPr>
          <a:xfrm>
            <a:off x="532800" y="400536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á je Vaše představa o bo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http://t3.gstatic.com/images?q=tbn:ANd9GcQ0PfoeEv7OL-HTPSUq9zxHzFjRJgtXsViDV4xE7eSQw3Qvl8s_"/>
          <p:cNvPicPr/>
          <p:nvPr/>
        </p:nvPicPr>
        <p:blipFill>
          <a:blip r:embed="rId3"/>
          <a:stretch/>
        </p:blipFill>
        <p:spPr>
          <a:xfrm>
            <a:off x="7093080" y="3429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Zaoblený obdélník 3" descr=""/>
          <p:cNvPicPr/>
          <p:nvPr/>
        </p:nvPicPr>
        <p:blipFill>
          <a:blip r:embed="rId1"/>
          <a:stretch/>
        </p:blipFill>
        <p:spPr>
          <a:xfrm>
            <a:off x="-23760" y="500040"/>
            <a:ext cx="9191520" cy="1749600"/>
          </a:xfrm>
          <a:prstGeom prst="rect">
            <a:avLst/>
          </a:prstGeom>
          <a:ln w="0">
            <a:noFill/>
          </a:ln>
        </p:spPr>
      </p:pic>
      <p:pic>
        <p:nvPicPr>
          <p:cNvPr id="31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1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ovéPole 5"/>
          <p:cNvSpPr/>
          <p:nvPr/>
        </p:nvSpPr>
        <p:spPr>
          <a:xfrm>
            <a:off x="271080" y="2349360"/>
            <a:ext cx="877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a je zpravidla popsána jako nekonečně dlouhá a také nekonečně tenká křivk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á je dokonale rovná. Nenechte se zaskočit slovem „křivka“ tento pojem vychá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topologie a také se mu budeme věnovat. Přímka je také nedefinovatelný po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t3.gstatic.com/images?q=tbn:ANd9GcQ0PfoeEv7OL-HTPSUq9zxHzFjRJgtXsViDV4xE7eSQw3Qvl8s_"/>
          <p:cNvPicPr/>
          <p:nvPr/>
        </p:nvPicPr>
        <p:blipFill>
          <a:blip r:embed="rId3"/>
          <a:stretch/>
        </p:blipFill>
        <p:spPr>
          <a:xfrm>
            <a:off x="7093080" y="3429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319" name="TextovéPole 7"/>
          <p:cNvSpPr/>
          <p:nvPr/>
        </p:nvSpPr>
        <p:spPr>
          <a:xfrm>
            <a:off x="462240" y="378936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á je Vaše představa o přím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ovéPole 8"/>
          <p:cNvSpPr/>
          <p:nvPr/>
        </p:nvSpPr>
        <p:spPr>
          <a:xfrm>
            <a:off x="474480" y="43657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značíme přím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ovéPole 9"/>
          <p:cNvSpPr/>
          <p:nvPr/>
        </p:nvSpPr>
        <p:spPr>
          <a:xfrm>
            <a:off x="477000" y="494172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jsou vzájemné polohy přím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Zaoblený obdélník 14"/>
          <p:cNvSpPr/>
          <p:nvPr/>
        </p:nvSpPr>
        <p:spPr>
          <a:xfrm>
            <a:off x="2050920" y="558972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mky symbolizují jednorozměrný pro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Zaoblený obdélník 3" descr=""/>
          <p:cNvPicPr/>
          <p:nvPr/>
        </p:nvPicPr>
        <p:blipFill>
          <a:blip r:embed="rId1"/>
          <a:stretch/>
        </p:blipFill>
        <p:spPr>
          <a:xfrm>
            <a:off x="-23760" y="500040"/>
            <a:ext cx="9191520" cy="1749600"/>
          </a:xfrm>
          <a:prstGeom prst="rect">
            <a:avLst/>
          </a:prstGeom>
          <a:ln w="0">
            <a:noFill/>
          </a:ln>
        </p:spPr>
      </p:pic>
      <p:pic>
        <p:nvPicPr>
          <p:cNvPr id="324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325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ovéPole 5"/>
          <p:cNvSpPr/>
          <p:nvPr/>
        </p:nvSpPr>
        <p:spPr>
          <a:xfrm>
            <a:off x="346680" y="227664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známe již první dva pojmy (bod, přímka) a můžeme tak definovat další poj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 těchto definicích postupujte vždy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ovéPole 6"/>
          <p:cNvSpPr/>
          <p:nvPr/>
        </p:nvSpPr>
        <p:spPr>
          <a:xfrm>
            <a:off x="406080" y="3500280"/>
            <a:ext cx="39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Zakreslete to, co chcete defin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ovéPole 7"/>
          <p:cNvSpPr/>
          <p:nvPr/>
        </p:nvSpPr>
        <p:spPr>
          <a:xfrm>
            <a:off x="403920" y="4149720"/>
            <a:ext cx="45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Vzpomeňte, co vše o daném pojmu ví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ovéPole 8"/>
          <p:cNvSpPr/>
          <p:nvPr/>
        </p:nvSpPr>
        <p:spPr>
          <a:xfrm>
            <a:off x="411480" y="4797360"/>
            <a:ext cx="819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okuste se o definici, která bude odpovídat právě tomuto pojmu a žádn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nému a která bude pro jeho určení dostačují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recenzent</cp:lastModifiedBy>
  <dcterms:modified xsi:type="dcterms:W3CDTF">2020-01-06T08:37:37Z</dcterms:modified>
  <cp:revision>33</cp:revision>
  <dc:subject/>
  <dc:title>Snímek 1</dc:title>
</cp:coreProperties>
</file>